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6153150" cy="2095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-1104840" y="1142640"/>
            <a:ext cx="906768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3226FA70-AD64-4E30-A685-039E8E950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-1104840" y="1143000"/>
            <a:ext cx="9067680" cy="308628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488E8EB7-FA05-4016-AAF0-83DEB795F8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4502-C501-4D23-9FA5-EE7CDFA19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55375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7800" y="1210320"/>
            <a:ext cx="55375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5FC8-52AB-4D6B-A15E-0E3B2A28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B94D0-6AEC-45ED-BAE0-CA58F541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4B7AA-D5EE-41D3-9BCC-C17BE1FA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7800" y="84240"/>
            <a:ext cx="5537520" cy="16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A02AB-F4FE-4FB9-8622-0A01C302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7800" y="12103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BD2E3-CD9D-4EBD-9DF3-439685C4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145320" y="12103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74BC0-61FC-42B6-A5AB-50607225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7800" y="1210320"/>
            <a:ext cx="55375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255C5-9F6D-4CA3-98AC-BB43C7ED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55375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7800" y="1210320"/>
            <a:ext cx="55375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81F1D-EBF7-4792-B620-AC094776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7800" y="12103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3145320" y="12103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5D20C-7621-4972-821C-CDDBC2964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2180160" y="4885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052160" y="4885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7800" y="12103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2180160" y="12103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4052160" y="12103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BF6FF0-4FDA-412E-B363-8EE01375C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9D327F-1464-4EDF-B8FE-E2C426618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7800" y="12103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45320" y="12103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A3AC-BD06-4F5E-8552-305D238D9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7800" y="488520"/>
            <a:ext cx="5537520" cy="13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7BB186-B591-4630-AE19-47E91A99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553752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BFCE2-4F5E-4865-BABA-A935F5EC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52C25-9C64-4D72-80F9-6DC40AB5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2EBEB-8C53-4953-BB6D-0A0A728B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7800" y="84240"/>
            <a:ext cx="5537520" cy="16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ABDC80-429B-46FD-BDC4-99C966B2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7800" y="12103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A92A2D-02FA-49DF-96A8-C6D2A2E2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145320" y="12103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4FFBE5-9C1B-4695-A5D7-0052A983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7800" y="1210320"/>
            <a:ext cx="55375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E12DA-1C52-419A-97AC-B8893AEE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55375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7800" y="1210320"/>
            <a:ext cx="55375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5772BA-BFA1-43F3-AAD4-4E114146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7800" y="12103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145320" y="12103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B8141-ACC3-469B-AB78-B4E81B6A7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80160" y="4885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52160" y="4885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7800" y="12103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80160" y="12103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052160" y="12103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FE61-4626-4EEA-84BC-936F32581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2180160" y="4885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052160" y="4885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7800" y="12103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2180160" y="12103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4052160" y="12103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52CB49-AC5A-4137-BC32-F2C031AD1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C4F23-AA2C-4215-B6B1-E633813F6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7800" y="488520"/>
            <a:ext cx="5537520" cy="13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AEC60-8576-473F-9344-9317340F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553752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3061E-EFB4-434C-B009-92AAF4BD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BEF8C-7923-4BF2-B5E5-B2A6C22F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41122-A249-40DF-B17C-906D6243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7800" y="84240"/>
            <a:ext cx="5537520" cy="16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59A79-019D-48B6-9EB0-EAD496AD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7800" y="12103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2049E-F882-4A50-B0F0-34A09C7B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145320" y="12103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FCD7C-8320-4B47-81A9-406501B9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7800" y="1210320"/>
            <a:ext cx="55375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557F9-EAA1-4DDB-8D9B-F707ECF5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B622-C8CE-42D2-986C-2137A9446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55375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7800" y="1210320"/>
            <a:ext cx="55375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9DFE8-36C6-45B1-AEE7-52461027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7800" y="12103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3145320" y="12103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03BCD-77DA-45B2-B145-9DD75ADE2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2180160" y="4885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052160" y="4885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7800" y="12103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2180160" y="12103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4052160" y="12103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8248C-54AE-4ABA-B366-602BCDE8F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6461BB-B076-4373-B131-C3FD68459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7800" y="488520"/>
            <a:ext cx="5537520" cy="13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10CE4B-064E-4FCD-B838-5D8252DE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553752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DE3040-3061-4E13-83AF-C8EFE1A3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E9FBA2-9601-4022-BE37-8593D815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B0CF30-2877-41B4-B5E8-07D6A3C2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7800" y="84240"/>
            <a:ext cx="5537520" cy="16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0247A5-707E-47FA-969D-662FDDD9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7800" y="12103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075762-C7AE-4D4C-83C8-63C4EA96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7800" y="488520"/>
            <a:ext cx="5537520" cy="13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3352-EB5D-4F1D-A77B-DB1E5172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3145320" y="12103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E25D7C-4590-4F2A-9443-B9D6C1AE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7800" y="1210320"/>
            <a:ext cx="55375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A834EA-7084-478A-94C4-33FB74AD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55375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7800" y="1210320"/>
            <a:ext cx="55375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DFED8D-7844-4EDF-92A1-C321111F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7800" y="12103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3145320" y="12103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6A9A99-A2DC-43D6-ABDA-37CA04AB3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2180160" y="4885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052160" y="4885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7800" y="12103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2180160" y="12103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4052160" y="12103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57D8DF-2C3F-4252-8B37-55DBC16E3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553752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F0C9-9DB1-45F6-873C-8334DAB1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4B33-B20A-4CE9-9D2B-B2875BB0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8CC0-57F9-45C9-B7E5-01C5C560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7800" y="84240"/>
            <a:ext cx="5537520" cy="16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4E57-9541-4E41-8686-510F2651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7800" y="12103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23F5-C04B-478E-B7E7-FD9B27B4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7800" y="488520"/>
            <a:ext cx="5537520" cy="13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2663-75E8-4B98-842A-D1975734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145320" y="12103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AD28-48FD-448B-A9CA-91DF3A8D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7800" y="1210320"/>
            <a:ext cx="55375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D611-C3F7-49E1-B2D4-F8163337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55375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7800" y="1210320"/>
            <a:ext cx="55375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5BDB-F464-4D28-845E-BD0585A0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7800" y="12103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145320" y="12103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2B0B-8E42-44F6-AE50-AA7B60151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80160" y="4885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052160" y="4885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7800" y="12103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80160" y="12103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052160" y="12103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F913-1E21-4E33-918C-5641A1E02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C6988-757E-4B40-8958-D205A501C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7800" y="488520"/>
            <a:ext cx="5537520" cy="13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0F1BB-A863-4C57-87E4-62C840D1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553752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0A649-C5B7-4DDF-B060-70461166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CCA3A-C888-4BCA-9D38-480E2793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DEABC-6F28-4EBB-ACB2-E67259CA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553752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CCB5-0AE3-4F6C-80E7-0EFF6AE8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7800" y="84240"/>
            <a:ext cx="5537520" cy="16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08B11-7B94-454D-80A1-3C1526B0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7800" y="12103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A9795-A313-4E60-AEE3-716F14D1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145320" y="12103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A49FF-D09A-4BB9-9FCB-01A0B8D2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7800" y="1210320"/>
            <a:ext cx="55375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8096F-3250-427A-97C8-548150F3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55375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7800" y="1210320"/>
            <a:ext cx="55375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586C3-50CA-49A1-B9E8-005D35D2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7800" y="12103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145320" y="12103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9FD2A-4B3A-4879-8EB3-DB99AE026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180160" y="4885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052160" y="4885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7800" y="12103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180160" y="12103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4052160" y="12103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5736C-B685-481C-A8FA-27323B915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E748C-6858-4609-9F23-387A1E9E0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7800" y="488520"/>
            <a:ext cx="5537520" cy="13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8AC39-C685-4321-9D26-4E10D7DF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553752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0F8B3-DCC9-48D2-A4FB-55232246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2A01-7611-4F7D-938E-B6B6D156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936F7-41C4-4847-838B-9E84BFEB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38ED2-EFF3-48F8-A5BC-7D36BE1B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7800" y="84240"/>
            <a:ext cx="5537520" cy="16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B8438-4C96-45BB-80DB-000A0753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7800" y="12103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2C44C-CC95-4822-8494-EC5BE3FE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145320" y="12103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C9D15-2040-42FC-8907-77DE1511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7800" y="1210320"/>
            <a:ext cx="55375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DCDD3-9024-4BD5-952A-F73B4EF1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55375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7800" y="1210320"/>
            <a:ext cx="55375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2AA62-9F5A-47DC-8445-C211A279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7800" y="12103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145320" y="12103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B6263-24F8-43A8-A609-2D96C4801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180160" y="4885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052160" y="4885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7800" y="12103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180160" y="12103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4052160" y="12103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C4663-D710-41E2-B610-1652E0BC7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30D1E-5D35-4FAC-976F-DE0C8467A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B1AA-0B76-4B3E-B042-6A3E532C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7800" y="488520"/>
            <a:ext cx="5537520" cy="13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67D22-9F27-4559-A4FC-F863CFFB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553752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4CA29-F8D8-4480-B682-DB3F7883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6200B-8E25-49D3-9479-AC9DE0F9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B3402-D4BC-4428-B837-D3C9574C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7800" y="84240"/>
            <a:ext cx="5537520" cy="16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636F0-B669-4834-81E6-1A3B6871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7800" y="12103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DB743-2777-41D9-ADEE-9FFF7712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145320" y="12103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1FA6B-75C8-4595-B129-8C9C3F3D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7800" y="1210320"/>
            <a:ext cx="55375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F59C5-6F4D-49DD-A17A-8FFABF6F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55375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7800" y="1210320"/>
            <a:ext cx="55375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05401-6268-48F8-B9CD-E08694B6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7800" y="12103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3145320" y="12103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5821D-E1E7-4EDF-8E14-0D791C985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7800" y="84240"/>
            <a:ext cx="5537520" cy="16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132F-29E2-41B0-8252-2C3B564A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180160" y="4885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052160" y="4885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7800" y="12103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2180160" y="12103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4052160" y="12103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A8EAE-8F90-4D9D-A353-08806E265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92C57-3CC0-45F3-91B6-0999095CA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7800" y="488520"/>
            <a:ext cx="5537520" cy="13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662FA-1DFB-40F2-8210-70802D2C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553752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48C58-78E7-4C9C-BDCD-4FD4A3AF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46F87-CCA5-4168-8625-AAC526A1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2BF2C-3DCE-42AE-B2D0-7C6449CC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7800" y="84240"/>
            <a:ext cx="5537520" cy="16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23271-F14F-4C69-A383-678CCBAE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7800" y="12103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A0FA9-9C60-47A2-820D-B9477369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145320" y="12103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E4CA4-5668-4C4F-B751-9A2FDA29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7800" y="1210320"/>
            <a:ext cx="55375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8134A-849E-484D-BAED-1B89C785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7800" y="12103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8F5F-6C1F-4002-AE12-F807B7BA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55375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7800" y="1210320"/>
            <a:ext cx="55375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5CEC2-EA4F-4160-AF6A-4DE6B66B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7800" y="12103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145320" y="12103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3F2EA-CDC4-494C-A1FC-3EE20350D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2180160" y="4885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052160" y="4885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7800" y="12103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2180160" y="12103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4052160" y="12103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05737-5E0A-404B-AEFE-34CD7E5B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06C56-073E-4771-B850-6DDA01C2B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7800" y="488520"/>
            <a:ext cx="5537520" cy="13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80CE2-0F95-43EB-96F5-BF5EC214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553752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73E35-6271-46F7-97A5-76983580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4CD27-B8DB-4965-AA61-F66255B2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C20B0-447B-46A6-82A4-9663ECE5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7800" y="84240"/>
            <a:ext cx="5537520" cy="16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D8363-58AE-4F29-9E1E-0151EA88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7800" y="12103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8872A-09C3-4B3D-A8D5-555299B8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45320" y="12103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83B2-F949-4C47-8527-303E8C1F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145320" y="12103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DA658-7DA4-4320-A811-8F7BAACD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7800" y="1210320"/>
            <a:ext cx="55375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71F13-9C96-4E9F-AD35-44F5F88E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55375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7800" y="1210320"/>
            <a:ext cx="55375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87D07-31D9-47E3-990A-E15EE3E8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7800" y="12103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145320" y="12103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989E2-340D-4FE1-BE5B-6E73FCE6F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180160" y="4885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052160" y="4885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7800" y="12103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2180160" y="12103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4052160" y="12103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D3EEA-BE2B-4595-93EC-DD749BD3C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1246E-8C9B-482B-8B85-CB882E8A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7800" y="488520"/>
            <a:ext cx="5537520" cy="13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C36FB-D689-44DC-8B43-68E14D6D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553752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B26E7-5232-40E0-A72D-61372D29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3C264-B8EA-4132-A336-3AD099AB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F79C4-CEB6-4922-B11F-B2D8D95B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7800" y="1210320"/>
            <a:ext cx="55375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D14E-D691-4558-9A0A-655D3DC5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7800" y="84240"/>
            <a:ext cx="5537520" cy="16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08CA1-2E0E-408A-9826-894B5715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7800" y="12103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1D1D4-2B1F-459B-8E50-A5C721AB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145320" y="12103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F8A41-89A7-47AD-A46D-F2174B42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7800" y="1210320"/>
            <a:ext cx="55375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6F37D-9B96-47EE-BE89-5D1198D2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55375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7800" y="1210320"/>
            <a:ext cx="55375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21A27-2FE8-44D2-89E4-982BAFC4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145320" y="4885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7800" y="12103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3145320" y="1210320"/>
            <a:ext cx="270216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CEA38-F8FE-41FD-A614-573A1C896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180160" y="4885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052160" y="4885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7800" y="12103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2180160" y="12103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4052160" y="1210320"/>
            <a:ext cx="1782720" cy="658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0CF6D-2DC9-4106-852B-F1E2FED69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574C9-6D37-4737-B722-DB4C7E46D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7800" y="488520"/>
            <a:ext cx="5537520" cy="13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B84B5-78DA-4543-9FD3-B33B014A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7800" y="60120"/>
            <a:ext cx="55375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7800" y="488520"/>
            <a:ext cx="553752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6FBF6-4F34-4C97-A88D-80ED3BAB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7800" y="84240"/>
            <a:ext cx="5537520" cy="3492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7800" y="488520"/>
            <a:ext cx="553752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66000"/>
          </a:bodyPr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52360" indent="-961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388440" indent="-77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543600" indent="-774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698760" indent="-77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698760" indent="-77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698760" indent="-77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7440" y="1941120"/>
            <a:ext cx="1435320" cy="111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en-US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6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01680" y="1941120"/>
            <a:ext cx="1949760" cy="111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409640" y="1941120"/>
            <a:ext cx="1435320" cy="111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en-US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F29BE35D-E4E5-40DC-9827-E4B7A13295CC}" type="slidenum">
              <a:rPr b="0" lang="en-US" sz="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7800" y="84240"/>
            <a:ext cx="5537520" cy="3492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7800" y="488520"/>
            <a:ext cx="553752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66000"/>
          </a:bodyPr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52360" indent="-961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388440" indent="-77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543600" indent="-774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698760" indent="-77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698760" indent="-77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698760" indent="-77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7440" y="1941120"/>
            <a:ext cx="1435320" cy="111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en-US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6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2101680" y="1941120"/>
            <a:ext cx="1949760" cy="111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4409640" y="1941120"/>
            <a:ext cx="1435320" cy="111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en-US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C51A390D-9ADE-4DDF-B409-7AB8112F2160}" type="slidenum">
              <a:rPr b="0" lang="en-US" sz="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7800" y="84240"/>
            <a:ext cx="5537520" cy="3492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7800" y="488520"/>
            <a:ext cx="553752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66000"/>
          </a:bodyPr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52360" indent="-961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388440" indent="-77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543600" indent="-774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698760" indent="-77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698760" indent="-77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698760" indent="-77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7440" y="1941120"/>
            <a:ext cx="1435320" cy="111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en-US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6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2101680" y="1941120"/>
            <a:ext cx="1949760" cy="111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4409640" y="1941120"/>
            <a:ext cx="1435320" cy="111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en-US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0D190D31-722D-4AF9-AFEE-17CB9929ED86}" type="slidenum">
              <a:rPr b="0" lang="en-US" sz="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7800" y="84240"/>
            <a:ext cx="5537520" cy="3492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7800" y="488520"/>
            <a:ext cx="553752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66000"/>
          </a:bodyPr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52360" indent="-961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388440" indent="-77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543600" indent="-774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698760" indent="-77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698760" indent="-77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698760" indent="-77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07440" y="1941120"/>
            <a:ext cx="1435320" cy="111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en-US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6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2101680" y="1941120"/>
            <a:ext cx="1949760" cy="111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4409640" y="1941120"/>
            <a:ext cx="1435320" cy="111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en-US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8DBBC38E-25EE-410D-A742-641D8D6E1413}" type="slidenum">
              <a:rPr b="0" lang="en-US" sz="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7800" y="84240"/>
            <a:ext cx="5537520" cy="3492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7800" y="488520"/>
            <a:ext cx="553752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66000"/>
          </a:bodyPr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52360" indent="-961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388440" indent="-77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543600" indent="-774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698760" indent="-77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698760" indent="-77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698760" indent="-77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7440" y="1941120"/>
            <a:ext cx="1435320" cy="111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en-US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6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101680" y="1941120"/>
            <a:ext cx="1949760" cy="111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409640" y="1941120"/>
            <a:ext cx="1435320" cy="111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en-US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11136E72-6474-4401-B2BC-751919A08287}" type="slidenum">
              <a:rPr b="0" lang="en-US" sz="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7800" y="84240"/>
            <a:ext cx="5537520" cy="3492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7800" y="488520"/>
            <a:ext cx="553752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66000"/>
          </a:bodyPr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52360" indent="-961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388440" indent="-77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543600" indent="-774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698760" indent="-77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698760" indent="-77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698760" indent="-77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7440" y="1941120"/>
            <a:ext cx="1435320" cy="111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en-US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6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101680" y="1941120"/>
            <a:ext cx="1949760" cy="111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4409640" y="1941120"/>
            <a:ext cx="1435320" cy="111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en-US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DB72830B-2332-4D2B-A2AE-DE4B4720CE3A}" type="slidenum">
              <a:rPr b="0" lang="en-US" sz="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7800" y="84240"/>
            <a:ext cx="5537520" cy="3492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7800" y="488520"/>
            <a:ext cx="553752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66000"/>
          </a:bodyPr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52360" indent="-961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388440" indent="-77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543600" indent="-774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698760" indent="-77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698760" indent="-77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698760" indent="-77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7440" y="1941120"/>
            <a:ext cx="1435320" cy="111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en-US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6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101680" y="1941120"/>
            <a:ext cx="1949760" cy="111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4409640" y="1941120"/>
            <a:ext cx="1435320" cy="111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en-US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4DDB2790-2AF9-4A61-9CA8-3E3E0830D9DB}" type="slidenum">
              <a:rPr b="0" lang="en-US" sz="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7800" y="84240"/>
            <a:ext cx="5537520" cy="3492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7800" y="488520"/>
            <a:ext cx="553752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66000"/>
          </a:bodyPr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52360" indent="-961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388440" indent="-77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543600" indent="-774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698760" indent="-77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698760" indent="-77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698760" indent="-77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7440" y="1941120"/>
            <a:ext cx="1435320" cy="111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en-US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6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101680" y="1941120"/>
            <a:ext cx="1949760" cy="111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4409640" y="1941120"/>
            <a:ext cx="1435320" cy="111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en-US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48C86063-0FBF-4D9A-AAE2-AB2644959CC7}" type="slidenum">
              <a:rPr b="0" lang="en-US" sz="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7800" y="84240"/>
            <a:ext cx="5537520" cy="3492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7800" y="488520"/>
            <a:ext cx="553752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66000"/>
          </a:bodyPr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52360" indent="-961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388440" indent="-77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543600" indent="-774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698760" indent="-77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698760" indent="-77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698760" indent="-77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7440" y="1941120"/>
            <a:ext cx="1435320" cy="111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en-US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6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2101680" y="1941120"/>
            <a:ext cx="1949760" cy="111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4409640" y="1941120"/>
            <a:ext cx="1435320" cy="111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en-US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B17B622F-7F6B-4B70-952F-75A8F683C73E}" type="slidenum">
              <a:rPr b="0" lang="en-US" sz="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7800" y="84240"/>
            <a:ext cx="5537520" cy="3492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7800" y="488520"/>
            <a:ext cx="553752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66000"/>
          </a:bodyPr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52360" indent="-961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388440" indent="-77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543600" indent="-774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698760" indent="-77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698760" indent="-77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698760" indent="-77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7440" y="1941120"/>
            <a:ext cx="1435320" cy="111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en-US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6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2101680" y="1941120"/>
            <a:ext cx="1949760" cy="111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4409640" y="1941120"/>
            <a:ext cx="1435320" cy="111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en-US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73FECB63-2E4F-4CC6-9AF9-2C2711F90C61}" type="slidenum">
              <a:rPr b="0" lang="en-US" sz="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7800" y="84240"/>
            <a:ext cx="5537520" cy="3492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7800" y="488520"/>
            <a:ext cx="553752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66000"/>
          </a:bodyPr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52360" indent="-961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388440" indent="-77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543600" indent="-774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698760" indent="-77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698760" indent="-77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698760" indent="-77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7440" y="1941120"/>
            <a:ext cx="1435320" cy="111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en-US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6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2101680" y="1941120"/>
            <a:ext cx="1949760" cy="111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4409640" y="1941120"/>
            <a:ext cx="1435320" cy="111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en-US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C2699B0D-D854-44CF-A91A-131D8D243A3A}" type="slidenum">
              <a:rPr b="0" lang="en-US" sz="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7800" y="84240"/>
            <a:ext cx="5537520" cy="3492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7800" y="488520"/>
            <a:ext cx="5537520" cy="1381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66000"/>
          </a:bodyPr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52360" indent="-961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388440" indent="-77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543600" indent="-774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698760" indent="-77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698760" indent="-77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698760" indent="-77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7440" y="1941120"/>
            <a:ext cx="1435320" cy="111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en-US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6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2101680" y="1941120"/>
            <a:ext cx="1949760" cy="111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4409640" y="1941120"/>
            <a:ext cx="1435320" cy="111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en-US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8F3BDAE2-D418-4CD1-B247-1D48FE342127}" type="slidenum">
              <a:rPr b="0" lang="en-US" sz="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1193760" y="0"/>
            <a:ext cx="376560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7800" y="84240"/>
            <a:ext cx="5537520" cy="3492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Calibri"/>
              </a:rPr>
              <a:t>So verwenden Sie diese Vorlag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7440" y="488880"/>
            <a:ext cx="5845320" cy="1548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9000"/>
          </a:bodyPr>
          <a:p>
            <a:pPr>
              <a:spcBef>
                <a:spcPts val="249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Die leere Folie unten ist die Leinwand, auf der Sie Ihr ganz eigenes Header-Bild für Ihre Unternehmensseite erstellen können! Sie hat bereits das richtige Format für die Maße, die für LinkedIn benötigt werde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Sie passen die Vorlage an, indem Sie Bilder einbauen. Verwenden Sie dazu „Bild einfügen“ oder „Form einfügen“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und stellen Sie eigene Grafiken her. Mit unterschiedlichen Schriftarten, Hintergrundfarben und Effekten können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Sie Ihr Titelbild aus der Masse hervorheben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Wenn Sie fertig sind, speichern Sie die Datei als Bild (über das Datei-Menü oder das Rechtsklick-Kontextmenü).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Damit wird die Folie automatisch als Bild gespeichert, das Sie als LinkedIn-Titelbild hochladen können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15880" y="650880"/>
            <a:ext cx="3321360" cy="4478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Calibri"/>
              </a:rPr>
              <a:t>Für LinkedIn benötigen Sie ein Bild mit 646 x 220 Pixel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3" name="Straight Arrow Connector 4"/>
          <p:cNvCxnSpPr/>
          <p:nvPr/>
        </p:nvCxnSpPr>
        <p:spPr>
          <a:xfrm>
            <a:off x="320400" y="209520"/>
            <a:ext cx="1080" cy="1675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lg" type="arrow" w="lg"/>
            <a:tailEnd len="lg" type="arrow" w="lg"/>
          </a:ln>
        </p:spPr>
      </p:cxnSp>
      <p:cxnSp>
        <p:nvCxnSpPr>
          <p:cNvPr id="504" name="Straight Arrow Connector 6"/>
          <p:cNvCxnSpPr/>
          <p:nvPr/>
        </p:nvCxnSpPr>
        <p:spPr>
          <a:xfrm flipH="1">
            <a:off x="1698480" y="1785600"/>
            <a:ext cx="2756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lg" type="arrow" w="lg"/>
            <a:tailEnd len="lg" type="arrow" w="lg"/>
          </a:ln>
        </p:spPr>
      </p:cxnSp>
      <p:sp>
        <p:nvSpPr>
          <p:cNvPr id="505" name="Title 1"/>
          <p:cNvSpPr/>
          <p:nvPr/>
        </p:nvSpPr>
        <p:spPr>
          <a:xfrm>
            <a:off x="2587680" y="1450800"/>
            <a:ext cx="979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646 p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itle 1"/>
          <p:cNvSpPr/>
          <p:nvPr/>
        </p:nvSpPr>
        <p:spPr>
          <a:xfrm>
            <a:off x="157320" y="868320"/>
            <a:ext cx="979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220 p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4" descr=""/>
          <p:cNvPicPr/>
          <p:nvPr/>
        </p:nvPicPr>
        <p:blipFill>
          <a:blip r:embed="rId1"/>
          <a:srcRect l="4197" t="32754" r="0" b="19355"/>
          <a:stretch/>
        </p:blipFill>
        <p:spPr>
          <a:xfrm>
            <a:off x="0" y="0"/>
            <a:ext cx="6153120" cy="2093760"/>
          </a:xfrm>
          <a:prstGeom prst="rect">
            <a:avLst/>
          </a:prstGeom>
          <a:ln w="0">
            <a:noFill/>
          </a:ln>
        </p:spPr>
      </p:pic>
      <p:sp>
        <p:nvSpPr>
          <p:cNvPr id="508" name="TextBox 3"/>
          <p:cNvSpPr/>
          <p:nvPr/>
        </p:nvSpPr>
        <p:spPr>
          <a:xfrm rot="20238600">
            <a:off x="1983600" y="702000"/>
            <a:ext cx="21812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de-DE" sz="4200" spc="-1" strike="noStrike">
                <a:solidFill>
                  <a:srgbClr val="ff0000"/>
                </a:solidFill>
                <a:latin typeface="Calibri"/>
              </a:rPr>
              <a:t>BEISPI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itle 1"/>
          <p:cNvSpPr/>
          <p:nvPr/>
        </p:nvSpPr>
        <p:spPr>
          <a:xfrm>
            <a:off x="461880" y="650880"/>
            <a:ext cx="522936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Löschen Sie dieses Textfeld und platzieren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Sie Ihr Bild/Design hier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7800" y="84240"/>
            <a:ext cx="5537520" cy="3492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Calibri"/>
              </a:rPr>
              <a:t>Gefällt Ihnen diese Vorlage? Teilen Sie sie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28080" y="784080"/>
            <a:ext cx="6124680" cy="5256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Klicken Sie auf die Symbole, um diese Vorlage auf Social Media zu teil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2" name="Picture 9" descr=""/>
          <p:cNvPicPr/>
          <p:nvPr/>
        </p:nvPicPr>
        <p:blipFill>
          <a:blip r:embed="rId1"/>
          <a:stretch/>
        </p:blipFill>
        <p:spPr>
          <a:xfrm>
            <a:off x="2155680" y="1217520"/>
            <a:ext cx="460440" cy="4683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0" descr=""/>
          <p:cNvPicPr/>
          <p:nvPr/>
        </p:nvPicPr>
        <p:blipFill>
          <a:blip r:embed="rId2"/>
          <a:stretch/>
        </p:blipFill>
        <p:spPr>
          <a:xfrm>
            <a:off x="3567240" y="1214280"/>
            <a:ext cx="460080" cy="4716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1" descr=""/>
          <p:cNvPicPr/>
          <p:nvPr/>
        </p:nvPicPr>
        <p:blipFill>
          <a:blip r:embed="rId3"/>
          <a:stretch/>
        </p:blipFill>
        <p:spPr>
          <a:xfrm>
            <a:off x="2838600" y="1217520"/>
            <a:ext cx="461880" cy="4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4T17:53:02Z</dcterms:created>
  <dc:creator>Shannon Johnson</dc:creator>
  <dc:description/>
  <dc:language>en-US</dc:language>
  <cp:lastModifiedBy>Virginia Vitantonio</cp:lastModifiedBy>
  <dcterms:modified xsi:type="dcterms:W3CDTF">2016-10-14T17:31:21Z</dcterms:modified>
  <cp:revision>14</cp:revision>
  <dc:subject/>
  <dc:title>PowerPoint Presentation</dc:title>
</cp:coreProperties>
</file>