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24387175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CD1-DFAF-49DF-9F17-B2C3BC70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AB2-D17D-4119-ACF5-E48EC80E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BB037-E3C8-4468-8787-FEDF2213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C9F8D-B062-4D64-90C5-1F6669D3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219320" y="549360"/>
            <a:ext cx="21948480" cy="10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8F567-0EA2-4FD5-BB8E-70FB8514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61304-87DB-458A-9A46-6894A7E8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C78DC-D35D-4A78-B6DC-E253B50B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53851-20F5-43D2-840C-59E0ACD8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4B300-B583-42A5-9E93-B4970EB3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D5888-3957-4833-81BB-704CA941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64036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606104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21932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864036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606104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31EBF-6071-4938-B7F0-B5C18A3A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16FAA-C610-4B88-B8D1-EA8AE7B9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281-0542-4199-81EF-743D8A85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82B52-8EA3-4A30-9C8B-C874B4C3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547A9-C20D-49D8-8E34-B9ADE675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2B9B9-F2BA-44A3-BBF8-2C96DE13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ED0B9-1F49-4CB1-BC51-D3BEA456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19320" y="549360"/>
            <a:ext cx="21948480" cy="10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1D12A-E3F7-4527-A920-82F6FFDE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275E4-CFF0-4ECE-B68D-9DA36391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83418-4658-415B-A037-E2B301B1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D3C6D-B44A-474A-A73E-BD122616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FD8CA-63FC-4F5F-B717-C1F22702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DCBC1-9512-4061-AA3A-E9356490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64036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06104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64036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606104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91D-CBD6-4AD9-A930-5A9B5CE7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864036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606104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1932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864036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1606104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5EA1F-1CA0-41EF-8502-9570F750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B482E-BDBD-4F4C-8A4A-8C768CC3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F45A2-2F46-48E3-8656-5FEA676E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6D66D-7475-47C1-979E-8F750B67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BE956-4273-4AFE-96C8-14125E2E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CD821-8D42-4BD4-A662-B62BAD6D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19320" y="549360"/>
            <a:ext cx="21948480" cy="10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E103A-9D61-43BF-995D-4FEA90E7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80C65-D552-422A-BB18-7A755157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FF130-7A28-405E-A204-5C0676B5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FF837-8BA8-4B7D-9DEE-595A5B35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919B-DC10-4476-A9D4-3922D50D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FE738-8C33-43CA-B635-DB5E0FF8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5BE42-F313-4801-A267-4251340D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64036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06104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21932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864036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1606104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A8262-B28A-4394-AAA4-24FCB854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7EA7A-A436-49FC-ABD6-07A1E0EF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09EDA-BC7E-4341-8C46-78EEE6F9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45E54-1BDC-41CF-9E22-CDC59430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98403-4F7B-4C72-B977-706338CF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72F48-171E-43BE-8881-0BF46BEB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219320" y="549360"/>
            <a:ext cx="21948480" cy="10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31FE7-4514-4EDC-AF5A-011AF04C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719D3-F068-4D51-ABAF-E5A311EB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9335-6C7D-43EE-B4B7-3923234C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73BDC-3FC9-4A1C-ACEA-C0C22FF2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3E6C7-71F2-4C0E-96C9-138EBAE4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05EF8-8B15-4E49-AB34-5DC0505E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B6298-A15F-49E0-B959-AA2139F2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864036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606104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21932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864036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606104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0ED61-F543-4BED-BCE2-E1909608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F1F1-7CA3-4EE5-9018-5C7C69D5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9718-7BB1-4D5C-A488-2446AAFE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7FB0-DBD2-41F7-8DDE-952B75EC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549360"/>
            <a:ext cx="21948480" cy="10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22E4-87BB-40AB-8833-9E434366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015F-131B-46B5-80BD-416BB967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32B-454B-44C3-8093-403481F9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0112-A68A-48C8-83FA-372BD5F5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3E0E-36AC-49AF-9A82-4AC0A79E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AE39-84C4-4589-A36C-5E0CE422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1AAE-8DFA-4459-B7C4-C02B06EA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64036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6104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864036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606104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3986-7444-4FD9-BB8C-68F55850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37D3D-7DB2-492F-B826-5976F419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79B62-8502-4735-BACD-DDF6FD44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FBE0A-C4B9-4CC4-9EE1-BA131410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699B8-7716-4B6F-A7AB-EFB36462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E71F8-7FF9-4BA9-B380-0A1088DF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D78-37B6-4D81-8AC6-9DA12E90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19320" y="549360"/>
            <a:ext cx="21948480" cy="10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64D47-610C-4408-B914-967AC8E2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09D59-B6DF-4C39-B497-C8A7DD4D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857D-2998-4CB1-BED1-87F2C125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76719-AB0F-404A-B59B-4D113D2B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9005A-C7F4-40A4-AE96-E67BCB82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B0C45-4EFB-42E3-ABAB-80BF4910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64036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606104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932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864036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606104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3ADC5-F10E-41EE-BF59-68417A87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C96E1-F3AD-4AAB-AD7C-1DF9D4B1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61AB0-121B-411E-90CC-C2AA5F56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2DED8-62B2-4486-8996-85FCBF23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1B9-3B69-40DF-AA84-56EE6267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ACA9F-9C81-4041-BD8F-D02B3FF6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69FD9-2DD8-4145-8DF4-0FD554CC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19320" y="549360"/>
            <a:ext cx="21948480" cy="10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A4AD3-5ECA-4D39-87A4-F0B0511C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09A40-E319-4DC2-9949-3C2445F0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DBAE-CAB0-430C-9B31-D99882EA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4D452-A434-47FA-A6B6-03EE9FCF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1CFDF-3CB3-4E8C-B00A-CB7D2D95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C15F2-D7B4-4530-A392-7DAA0C25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64036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606104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1932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864036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1606104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817E4-9CB6-4ADC-862C-F4873123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FD743-F027-4B71-894C-6DB1FF21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77E-C2CC-4C51-A4C8-0C987EB7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08059-1DB2-4870-BCCB-2C48F432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9902B-8B99-4344-B8BB-65DFCCF2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67E25-71ED-4E17-B36D-E6B3F242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E010D-D1FE-408C-8C57-CCB14614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219320" y="549360"/>
            <a:ext cx="21948480" cy="10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1E15E-C63B-4447-8D57-677C8526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9B6D7-5C09-4BB1-A753-A0320180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5773E-5E7E-44A9-B1DA-A64BD5B6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F83D6-161C-4F3D-8A28-F151640B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BD484-7A76-4E38-84C3-E1962FA0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0DABC-F87A-402D-9EC9-3DA21208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549360"/>
            <a:ext cx="21948480" cy="10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E49-33E7-4E91-88B9-443461EB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64036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606104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1932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864036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1606104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C00F2-33EE-44F2-B42C-213B8402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7F897-C70B-48ED-B40C-2BF28BF5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D5B2A-20D1-4E14-AC8B-9AA3FDC9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5FA20-04F7-4C4F-8B7D-9985B808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B71AA-999A-49C1-B587-2B06BC4D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0181B-0D6D-4577-BFB7-1F25945D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19320" y="549360"/>
            <a:ext cx="21948480" cy="10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6C703-184C-48F8-9694-18289F8C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F27E1-3A19-4313-8589-410C55C3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2746F-EF9B-4F59-B574-3DD1FA09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0A892-0F05-405E-A382-30FA33BC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78A-77E6-4166-A167-6A3BF37A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88E16-F178-48A1-90E1-8E5FF998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443EC-99C6-4C07-8EB3-B69C0823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64036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606104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21932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864036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1606104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77CCC-4EDD-4E2A-B595-D530E00B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79DE2-6BBF-4873-8213-4BD3984B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554E8-2ABF-4F68-8312-7BDBA2E0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33999-A087-4F5E-8941-E3CD0D15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4F0E0-17B2-4E18-B90D-2C9EF6EA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0036C-495B-4A6C-8B4D-A2D2E312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19320" y="549360"/>
            <a:ext cx="21948480" cy="10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BA018-9CEF-4F62-96CE-E0835620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24B16-B14F-4ABE-9311-3C995A1A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6CD-C092-44D3-87EA-E183CE48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C915F-7EB5-42E3-8B67-3DE18421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ACF0A-C9B3-4F4B-932B-C13AEFB5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772D1-8187-421C-B333-92885A5E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D455C-DF6F-4881-9887-2C77B7E2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64036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606104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1932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864036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1606104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3F203-5E7E-4D58-8713-5CC13FEF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A3568-99F4-4E88-88C1-60D5ACD3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70549-3335-4B01-AA9E-3E58387C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D9A74-B6B3-4FF8-9447-473CFE1C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7C943-E625-4CD0-A7D3-B6201DE9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AD5EF-9257-4CEA-ABEE-D71AC19B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69E-C12F-45EA-B6E3-E6C327C6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219320" y="549360"/>
            <a:ext cx="21948480" cy="10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08695-FE45-4AC4-8DA7-703C0DF9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17D91-2E5F-4285-9679-79053DEC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B9485-289B-4A04-9C95-AA9B75CA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1CA2F-43A2-4F88-9B41-171293C6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9868D-618F-4CB0-878B-25C525C8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19BAB-198F-4D0E-AB92-E0F2E42F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64036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606104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1932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864036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1606104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B729D-C4C6-4FF4-9FAB-01F03743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3681B-ED24-4B58-A412-E824F52B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281F6-12D4-4BEE-B0F8-B7E486D1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EE5E2-E550-4C37-B709-283BEC2F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marL="695160" indent="-695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1" marL="1508040" indent="-5792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2" marL="2320920" indent="-463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3" marL="3249720" indent="-4636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4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5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6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8960" y="12712320"/>
            <a:ext cx="56912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332560" y="12712320"/>
            <a:ext cx="77216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476920" y="12712320"/>
            <a:ext cx="569088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fld id="{9731FC44-A3A2-4213-B21F-4E40E6F4875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marL="695160" indent="-695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1" marL="1508040" indent="-5792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2" marL="2320920" indent="-463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3" marL="3249720" indent="-4636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4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5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6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218960" y="12712320"/>
            <a:ext cx="56912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8332560" y="12712320"/>
            <a:ext cx="77216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17476920" y="12712320"/>
            <a:ext cx="569088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fld id="{3E71723F-E953-4F66-803B-CC6019C65AC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marL="695160" indent="-695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1" marL="1508040" indent="-5792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2" marL="2320920" indent="-463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3" marL="3249720" indent="-4636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4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5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6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218960" y="12712320"/>
            <a:ext cx="56912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8332560" y="12712320"/>
            <a:ext cx="77216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17476920" y="12712320"/>
            <a:ext cx="569088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fld id="{625932D8-6932-4D5B-8093-C43EDB91A77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marL="695160" indent="-695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1" marL="1508040" indent="-5792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2" marL="2320920" indent="-463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3" marL="3249720" indent="-4636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4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5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6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218960" y="12712320"/>
            <a:ext cx="56912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8332560" y="12712320"/>
            <a:ext cx="77216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17476920" y="12712320"/>
            <a:ext cx="569088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fld id="{41EAD74B-916F-448E-9F64-4C5DA3FEB0F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marL="695160" indent="-695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1" marL="1508040" indent="-5792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2" marL="2320920" indent="-463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3" marL="3249720" indent="-4636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4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5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6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18960" y="12712320"/>
            <a:ext cx="56912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8332560" y="12712320"/>
            <a:ext cx="77216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7476920" y="12712320"/>
            <a:ext cx="569088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fld id="{A2A6CA19-6157-415C-AAAA-B904BAA6381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marL="695160" indent="-695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1" marL="1508040" indent="-5792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2" marL="2320920" indent="-463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3" marL="3249720" indent="-4636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4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5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6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218960" y="12712320"/>
            <a:ext cx="56912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8332560" y="12712320"/>
            <a:ext cx="77216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7476920" y="12712320"/>
            <a:ext cx="569088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fld id="{A26B2CF4-03C4-4855-8426-A8BB53E446E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marL="695160" indent="-695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1" marL="1508040" indent="-5792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2" marL="2320920" indent="-463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3" marL="3249720" indent="-4636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4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5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6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218960" y="12712320"/>
            <a:ext cx="56912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8332560" y="12712320"/>
            <a:ext cx="77216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17476920" y="12712320"/>
            <a:ext cx="569088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fld id="{6C8CC831-6999-4589-9FCF-E3CB09C8D8C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marL="695160" indent="-695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1" marL="1508040" indent="-5792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2" marL="2320920" indent="-463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3" marL="3249720" indent="-4636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4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5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6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218960" y="12712320"/>
            <a:ext cx="56912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8332560" y="12712320"/>
            <a:ext cx="77216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7476920" y="12712320"/>
            <a:ext cx="569088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fld id="{07F52453-1957-47CD-B971-174DCB871A16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marL="695160" indent="-695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1" marL="1508040" indent="-5792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2" marL="2320920" indent="-463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3" marL="3249720" indent="-4636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4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5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6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218960" y="12712320"/>
            <a:ext cx="56912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8332560" y="12712320"/>
            <a:ext cx="77216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7476920" y="12712320"/>
            <a:ext cx="569088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fld id="{47CA4122-9FE6-4461-92A3-636F6E1FDC9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marL="695160" indent="-695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1" marL="1508040" indent="-5792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2" marL="2320920" indent="-463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3" marL="3249720" indent="-4636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4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5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6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218960" y="12712320"/>
            <a:ext cx="56912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8332560" y="12712320"/>
            <a:ext cx="77216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17476920" y="12712320"/>
            <a:ext cx="569088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fld id="{CC3EA930-878A-4767-8619-A76BF9C6A47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marL="695160" indent="-695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1" marL="1508040" indent="-5792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2" marL="2320920" indent="-463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3" marL="3249720" indent="-4636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4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5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6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218960" y="12712320"/>
            <a:ext cx="56912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8332560" y="12712320"/>
            <a:ext cx="77216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17476920" y="12712320"/>
            <a:ext cx="569088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fld id="{30596585-3DBB-416C-B157-08EFA802782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marL="695160" indent="-695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1" marL="1508040" indent="-5792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2" marL="2320920" indent="-463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3" marL="3249720" indent="-4636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4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5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6" marL="4178160" indent="-46332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218960" y="12712320"/>
            <a:ext cx="56912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8332560" y="12712320"/>
            <a:ext cx="772164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17476920" y="12712320"/>
            <a:ext cx="5690880" cy="7304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lstStyle>
            <a:lvl1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fld id="{1872C17D-5A0D-49A1-946E-9DA40B3F84F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facebook.com/sharer/sharer.php?u=http://offers.hubspot.com/social-media-cover-photo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ctt.ec/21eTW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www.linkedin.com/shareArticle?mini=true&amp;url=http://offers.hubspot.com/social-media-cover-photos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989000" y="1258920"/>
            <a:ext cx="20409120" cy="1119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de-DE" sz="8900" spc="-1" strike="noStrike">
                <a:solidFill>
                  <a:srgbClr val="000000"/>
                </a:solidFill>
                <a:latin typeface="Calibri"/>
              </a:rPr>
              <a:t>So verwenden Sie diese Vorlage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219320" y="3200040"/>
            <a:ext cx="21948480" cy="95058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de-DE" sz="5500" spc="-1" strike="noStrike">
                <a:solidFill>
                  <a:srgbClr val="000000"/>
                </a:solidFill>
                <a:latin typeface="Calibri"/>
              </a:rPr>
              <a:t>Die leere Folie unten ist die Leinwand, auf der Sie Ihr eigenes Header-Bild erstellen können. Sie hat bereits das richtige Format für die für YouTube-Kanäle vorgegebenen Maße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de-DE" sz="5500" spc="-1" strike="noStrike">
                <a:solidFill>
                  <a:srgbClr val="000000"/>
                </a:solidFill>
                <a:latin typeface="Calibri"/>
              </a:rPr>
              <a:t>Sie passen die Vorlage an, indem Sie Bilder einbauen. Verwenden Sie dazu die Funktionen „Bild einfügen“ oder „Form einfügen“ und erstellen Sie so eigene Grafiken. Mit unterschiedlichen Schriftarten, Hintergrundfarben </a:t>
            </a:r>
            <a:br>
              <a:rPr sz="5500"/>
            </a:br>
            <a:r>
              <a:rPr b="0" lang="de-DE" sz="5500" spc="-1" strike="noStrike">
                <a:solidFill>
                  <a:srgbClr val="000000"/>
                </a:solidFill>
                <a:latin typeface="Calibri"/>
              </a:rPr>
              <a:t>und Effekten können Sie Ihr Titelbild aus der Masse hervorheben. 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de-DE" sz="5500" spc="-1" strike="noStrike">
                <a:solidFill>
                  <a:srgbClr val="000000"/>
                </a:solidFill>
                <a:latin typeface="Calibri"/>
              </a:rPr>
              <a:t>Wenn Sie fertig sind, speichern Sie die Datei als Bild (über das Datei-Menü oder das Rechtsklick-Kontextmenü). Damit wird die Folie automatisch als Bild gespeichert, das Sie als YouTube-Titelbild hochladen können. 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3"/>
          <p:cNvSpPr/>
          <p:nvPr/>
        </p:nvSpPr>
        <p:spPr>
          <a:xfrm>
            <a:off x="3240" y="4869000"/>
            <a:ext cx="24383880" cy="3962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830240" y="1142640"/>
            <a:ext cx="22098240" cy="294012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Calibri"/>
              </a:rPr>
              <a:t>Für einen YouTube-Kanal, benötigen Sie ein Bild, das 2560 x 1440 Pixel </a:t>
            </a:r>
            <a:br>
              <a:rPr sz="5400"/>
            </a:br>
            <a:r>
              <a:rPr b="0" lang="de-DE" sz="5400" spc="-1" strike="noStrike">
                <a:solidFill>
                  <a:srgbClr val="000000"/>
                </a:solidFill>
                <a:latin typeface="Calibri"/>
              </a:rPr>
              <a:t>groß ist (optimiert für Fernseher). Auf einem Desktop wird der gesamte Bereich, der vom größten </a:t>
            </a:r>
            <a:r>
              <a:rPr b="0" lang="de-DE" sz="5400" spc="-1" strike="noStrike">
                <a:solidFill>
                  <a:srgbClr val="c00000"/>
                </a:solidFill>
                <a:latin typeface="Calibri"/>
              </a:rPr>
              <a:t>Rechteck mit 2560 x 423 px</a:t>
            </a:r>
            <a:r>
              <a:rPr b="0" lang="de-DE" sz="5400" spc="-1" strike="noStrike">
                <a:solidFill>
                  <a:srgbClr val="000000"/>
                </a:solidFill>
                <a:latin typeface="Calibri"/>
              </a:rPr>
              <a:t> überdeckt ist, </a:t>
            </a:r>
            <a:br>
              <a:rPr sz="5400"/>
            </a:br>
            <a:r>
              <a:rPr b="0" lang="de-DE" sz="5400" spc="-1" strike="noStrike">
                <a:solidFill>
                  <a:srgbClr val="000000"/>
                </a:solidFill>
                <a:latin typeface="Calibri"/>
              </a:rPr>
              <a:t>als Kanalbanner angezeig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7" name="Straight Arrow Connector 6"/>
          <p:cNvCxnSpPr/>
          <p:nvPr/>
        </p:nvCxnSpPr>
        <p:spPr>
          <a:xfrm flipH="1">
            <a:off x="1144080" y="12953520"/>
            <a:ext cx="2247984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headEnd len="lg" type="arrow" w="lg"/>
            <a:tailEnd len="lg" type="arrow" w="lg"/>
          </a:ln>
        </p:spPr>
      </p:cxnSp>
      <p:sp>
        <p:nvSpPr>
          <p:cNvPr id="498" name="Title 1"/>
          <p:cNvSpPr/>
          <p:nvPr/>
        </p:nvSpPr>
        <p:spPr>
          <a:xfrm>
            <a:off x="10253520" y="11201400"/>
            <a:ext cx="388332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760" rIns="185760" tIns="92880" bIns="9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600" spc="-1" strike="noStrike">
                <a:solidFill>
                  <a:srgbClr val="000000"/>
                </a:solidFill>
                <a:latin typeface="Calibri"/>
              </a:rPr>
              <a:t>2560 px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itle 1"/>
          <p:cNvSpPr/>
          <p:nvPr/>
        </p:nvSpPr>
        <p:spPr>
          <a:xfrm>
            <a:off x="77760" y="10836360"/>
            <a:ext cx="38829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760" rIns="185760" tIns="92880" bIns="9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600" spc="-1" strike="noStrike">
                <a:solidFill>
                  <a:srgbClr val="000000"/>
                </a:solidFill>
                <a:latin typeface="Calibri"/>
              </a:rPr>
              <a:t>1440 px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3278160" y="4876920"/>
            <a:ext cx="17678520" cy="396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4878360" y="4876920"/>
            <a:ext cx="14630400" cy="39621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Calibri"/>
              </a:rPr>
              <a:t>Sicherer Bereich für Text und Logo für Mobilgerät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(achten Sie darauf, dass die wichtigsten visuellen</a:t>
            </a:r>
            <a:br>
              <a:rPr sz="4000"/>
            </a:b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 Informationen hier enthalten sin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Calibri"/>
              </a:rPr>
              <a:t>1546 x 423 Pix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itle 1"/>
          <p:cNvSpPr/>
          <p:nvPr/>
        </p:nvSpPr>
        <p:spPr>
          <a:xfrm>
            <a:off x="8650440" y="8931240"/>
            <a:ext cx="708660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760" rIns="185760" tIns="92880" bIns="9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58ed5"/>
                </a:solidFill>
                <a:latin typeface="Calibri"/>
              </a:rPr>
              <a:t>Bereich für Text und Logo für Tab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58ed5"/>
                </a:solidFill>
                <a:latin typeface="Calibri"/>
              </a:rPr>
              <a:t>1855 X 423 Pix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3" name="Straight Arrow Connector 4"/>
          <p:cNvCxnSpPr/>
          <p:nvPr/>
        </p:nvCxnSpPr>
        <p:spPr>
          <a:xfrm>
            <a:off x="686880" y="380880"/>
            <a:ext cx="1080" cy="128023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headEnd len="lg" type="arrow" w="lg"/>
            <a:tailEnd len="lg" type="arrow" w="lg"/>
          </a:ln>
        </p:spPr>
      </p:cxnSp>
      <p:cxnSp>
        <p:nvCxnSpPr>
          <p:cNvPr id="504" name="Straight Arrow Connector 14"/>
          <p:cNvCxnSpPr/>
          <p:nvPr/>
        </p:nvCxnSpPr>
        <p:spPr>
          <a:xfrm>
            <a:off x="1144080" y="4876560"/>
            <a:ext cx="1080" cy="3812040"/>
          </a:xfrm>
          <a:prstGeom prst="straightConnector1">
            <a:avLst/>
          </a:prstGeom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</p:cxnSp>
      <p:cxnSp>
        <p:nvCxnSpPr>
          <p:cNvPr id="505" name="Straight Arrow Connector 15"/>
          <p:cNvCxnSpPr/>
          <p:nvPr/>
        </p:nvCxnSpPr>
        <p:spPr>
          <a:xfrm flipH="1">
            <a:off x="3382200" y="9183240"/>
            <a:ext cx="17269560" cy="1080"/>
          </a:xfrm>
          <a:prstGeom prst="straightConnector1">
            <a:avLst/>
          </a:prstGeom>
          <a:ln w="63360">
            <a:solidFill>
              <a:srgbClr val="558ed5"/>
            </a:solidFill>
            <a:miter/>
            <a:headEnd len="lg" type="arrow" w="lg"/>
            <a:tailEnd len="lg" type="arrow" w="lg"/>
          </a:ln>
        </p:spPr>
      </p:cxnSp>
      <p:sp>
        <p:nvSpPr>
          <p:cNvPr id="506" name="Title 1"/>
          <p:cNvSpPr/>
          <p:nvPr/>
        </p:nvSpPr>
        <p:spPr>
          <a:xfrm>
            <a:off x="306360" y="5608800"/>
            <a:ext cx="38829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760" rIns="185760" tIns="92880" bIns="9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600" spc="-1" strike="noStrike">
                <a:solidFill>
                  <a:srgbClr val="ffffff"/>
                </a:solidFill>
                <a:latin typeface="Calibri"/>
              </a:rPr>
              <a:t>423 px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itle 1"/>
          <p:cNvSpPr/>
          <p:nvPr/>
        </p:nvSpPr>
        <p:spPr>
          <a:xfrm>
            <a:off x="9090000" y="10302840"/>
            <a:ext cx="620712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760" rIns="185760" tIns="92880" bIns="928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Calibri"/>
                <a:ea typeface="Arial"/>
              </a:rPr>
              <a:t>Kanalbanner für Deskt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Calibri"/>
                <a:ea typeface="Arial"/>
              </a:rPr>
              <a:t>2560 X 423 Pix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8" name="Straight Arrow Connector 28"/>
          <p:cNvCxnSpPr/>
          <p:nvPr/>
        </p:nvCxnSpPr>
        <p:spPr>
          <a:xfrm flipH="1">
            <a:off x="1144080" y="10554840"/>
            <a:ext cx="23013360" cy="1080"/>
          </a:xfrm>
          <a:prstGeom prst="straightConnector1">
            <a:avLst/>
          </a:prstGeom>
          <a:ln w="63360">
            <a:solidFill>
              <a:srgbClr val="c00000"/>
            </a:solidFill>
            <a:miter/>
            <a:headEnd len="lg" type="arrow" w="lg"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" descr=""/>
          <p:cNvPicPr/>
          <p:nvPr/>
        </p:nvPicPr>
        <p:blipFill>
          <a:blip r:embed="rId1"/>
          <a:srcRect l="0" t="8011" r="0" b="7633"/>
          <a:stretch/>
        </p:blipFill>
        <p:spPr>
          <a:xfrm>
            <a:off x="0" y="0"/>
            <a:ext cx="24387120" cy="137160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5"/>
          <p:cNvSpPr/>
          <p:nvPr/>
        </p:nvSpPr>
        <p:spPr>
          <a:xfrm>
            <a:off x="3240" y="4869000"/>
            <a:ext cx="24383880" cy="3962160"/>
          </a:xfrm>
          <a:prstGeom prst="rect">
            <a:avLst/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3"/>
          <p:cNvSpPr/>
          <p:nvPr/>
        </p:nvSpPr>
        <p:spPr>
          <a:xfrm rot="20238600">
            <a:off x="6264720" y="5265360"/>
            <a:ext cx="1099044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760" rIns="185760" tIns="92880" bIns="92880" anchor="t">
            <a:spAutoFit/>
          </a:bodyPr>
          <a:p>
            <a:pPr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de-DE" sz="19500" spc="-1" strike="noStrike">
                <a:solidFill>
                  <a:srgbClr val="ff0000"/>
                </a:solidFill>
                <a:latin typeface="Calibri"/>
              </a:rPr>
              <a:t>BEISPIEL</a:t>
            </a:r>
            <a:endParaRPr b="0" lang="en-US" sz="19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268200" y="4876920"/>
            <a:ext cx="2400480" cy="1904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rofilfoto-Überlapp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itle 1"/>
          <p:cNvSpPr/>
          <p:nvPr/>
        </p:nvSpPr>
        <p:spPr>
          <a:xfrm>
            <a:off x="1182600" y="1322280"/>
            <a:ext cx="2202192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760" rIns="185760" tIns="92880" bIns="9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000000"/>
                </a:solidFill>
                <a:latin typeface="Calibri"/>
              </a:rPr>
              <a:t>Platzieren Sie Ihr Bild/Design hier. Achten Sie darauf, dass sich das Design, das auf </a:t>
            </a:r>
            <a:br>
              <a:rPr sz="4300"/>
            </a:br>
            <a:r>
              <a:rPr b="0" lang="de-DE" sz="4300" spc="-1" strike="noStrike">
                <a:solidFill>
                  <a:srgbClr val="000000"/>
                </a:solidFill>
                <a:latin typeface="Calibri"/>
              </a:rPr>
              <a:t>einem Desktop-Rechner sichtbar sein soll, innerhalb des roten Rechtecks befindet. </a:t>
            </a:r>
            <a:br>
              <a:rPr sz="4300"/>
            </a:br>
            <a:r>
              <a:rPr b="0" lang="de-DE" sz="4300" spc="-1" strike="noStrike">
                <a:solidFill>
                  <a:srgbClr val="000000"/>
                </a:solidFill>
                <a:latin typeface="Calibri"/>
              </a:rPr>
              <a:t>Wenn Sie fertig sind, löschen Sie dieses Textfeld und die Rechtecke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240" y="4869000"/>
            <a:ext cx="24383880" cy="3962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3278160" y="4876920"/>
            <a:ext cx="17678520" cy="396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878360" y="4876920"/>
            <a:ext cx="14630400" cy="39621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Calibri"/>
              </a:rPr>
              <a:t>Sicherer Bereich für Text und Logo für Mobilgerät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(achten Sie darauf, dass die wichtigsten visuellen </a:t>
            </a:r>
            <a:br>
              <a:rPr sz="4000"/>
            </a:b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Informationen hier enthalten sin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268200" y="4876920"/>
            <a:ext cx="2400480" cy="1904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rofilfoto-Überlapp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ctr">
            <a:noAutofit/>
          </a:bodyPr>
          <a:p>
            <a:pPr indent="0" algn="ctr">
              <a:buNone/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de-DE" sz="8900" spc="-1" strike="noStrike">
                <a:solidFill>
                  <a:srgbClr val="000000"/>
                </a:solidFill>
                <a:latin typeface="Calibri"/>
              </a:rPr>
              <a:t>Gefällt Ihnen diese Vorlage? Teilen Sie sie!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219320" y="4571640"/>
            <a:ext cx="21948480" cy="4575240"/>
          </a:xfrm>
          <a:prstGeom prst="rect">
            <a:avLst/>
          </a:prstGeom>
          <a:noFill/>
          <a:ln w="0">
            <a:noFill/>
          </a:ln>
        </p:spPr>
        <p:txBody>
          <a:bodyPr lIns="185760" rIns="185760" tIns="92880" bIns="92880" anchor="t">
            <a:normAutofit/>
          </a:bodyPr>
          <a:p>
            <a:pPr algn="ctr">
              <a:spcBef>
                <a:spcPts val="1826"/>
              </a:spcBef>
              <a:tabLst>
                <a:tab algn="l" pos="0"/>
                <a:tab algn="l" pos="1857240"/>
                <a:tab algn="l" pos="3714840"/>
                <a:tab algn="l" pos="5572080"/>
                <a:tab algn="l" pos="7429680"/>
                <a:tab algn="l" pos="9286920"/>
              </a:tabLst>
            </a:pPr>
            <a:r>
              <a:rPr b="0" lang="de-DE" sz="7300" spc="-1" strike="noStrike">
                <a:solidFill>
                  <a:srgbClr val="000000"/>
                </a:solidFill>
                <a:latin typeface="Calibri"/>
              </a:rPr>
              <a:t>Klicken Sie auf die Symbole, um diese </a:t>
            </a:r>
            <a:br>
              <a:rPr sz="7300"/>
            </a:br>
            <a:r>
              <a:rPr b="0" lang="de-DE" sz="7300" spc="-1" strike="noStrike">
                <a:solidFill>
                  <a:srgbClr val="000000"/>
                </a:solidFill>
                <a:latin typeface="Calibri"/>
              </a:rPr>
              <a:t>Vorlage auf Social Media zu teilen.</a:t>
            </a: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59480" y="861048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598720" y="86104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974240" y="86104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22:11:24Z</dcterms:created>
  <dc:creator>Shannon Johnson</dc:creator>
  <dc:description/>
  <dc:language>en-US</dc:language>
  <cp:lastModifiedBy>Virginia Vitantonio</cp:lastModifiedBy>
  <dcterms:modified xsi:type="dcterms:W3CDTF">2016-10-14T17:32:32Z</dcterms:modified>
  <cp:revision>23</cp:revision>
  <dc:subject/>
  <dc:title>How To Use This Template</dc:title>
</cp:coreProperties>
</file>