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20188238" cy="11358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34C-25B3-42BB-AFE5-2C27C88B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B49-9FFF-4A57-9F70-A042ABA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34819-7AB0-4519-98B6-83A35082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5F94-BA62-4E88-A52B-C9E83385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16646-649A-4353-9777-B8105036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ECBEE-FD01-4ABD-9651-45B8125F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9014E-F341-45D6-8935-C63734BB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51D2C-EF83-4C67-BD23-6F4F4D86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C29C7-CBF5-48A5-9EB3-3A810446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A6BF5-6133-4E21-ABC6-84518743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81874-429E-4847-99EF-CC1CBCE2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2F581-0DA0-4D6E-B6DE-E45579DB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07F-FBD7-4893-968F-27173104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44135-AB79-4985-9B9B-598CC7F5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ADF5F-2758-4AA0-AAA6-268AF672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CC30C-172C-429F-8766-F789BA3A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18E4C-21E4-4017-AE9E-61544E94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0F86C-95DA-4DB0-8DC9-A513CBFA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EBE40-7892-46A6-B0FE-F88C4A67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70F0A-0B2F-4C3F-85A3-3239513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FADC0-DD9C-4B40-9FA1-DDA50BF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80B65-4CCB-4BA1-AF9E-92A0E982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EF831-1DCA-40D5-A3A3-5CE04577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690-9DAC-4449-B729-43808429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7CEC1-5A6D-48FC-AAF5-28EF1EC2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07728-2BD9-41D7-88DB-7715A214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22586-1945-47F9-94F6-E321C7D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BC06D-BA25-42BB-9987-6BDE7707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12028-D3C3-481E-9ADE-72785B2B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0BF4A-E3DC-4B52-9318-85AB0B86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FBBF7-B175-4CAD-A8E7-70D6D48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B7212-F6EE-432C-B3D5-EB977411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49A0-8440-4677-821F-D1BC96C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E8F1D-EB10-4B8C-92FD-D236B50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6DB0-4757-4EB0-A917-BB936B7C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D14A-728F-42BC-B42E-A98D67AB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F7A2D-53E5-4F71-8E71-4CA64112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488BB-7A76-4461-8B2B-7520743B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F1FDF-1DB4-4ECC-B156-211E6202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3AAC8-9A1B-4461-A182-E402070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DE9F2-9830-4F52-A628-9B5B8340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9351B-EFE1-47FF-8468-07B110E2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B664A-F4FA-4C0F-A469-61D91D28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7633C-C75A-421C-847A-007D9BA3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D8DF7-CE78-485F-BF73-7D38E0C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DEE6-EAD0-41A3-B990-6CC5F7CD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A6BC7-A161-4E4A-B07D-7D57537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28FA6-4F27-4D25-958C-CB04FE6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F30CB-AB62-45B3-90C8-AF98D89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ED0CC-FC43-4E6E-90D5-4FC442E1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D97E0-69ED-47B9-B0C2-9F947385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97EC-43BE-4D79-B14D-61C4FDBC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D461-2F10-4324-9E4B-AD20E3C5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FCE4-774F-48AD-8E76-C0C711D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E299-EDF1-4B41-B335-4B2482D6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ED89-7121-4E8A-BFD4-F2D6C4D5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CA4-7E06-41CC-A205-B22B3875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2FFC-D08F-4639-93C3-C0A26E9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0726-2D4F-404C-9C3C-40D64480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75B9-23F5-4456-AC3D-CD2E635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5BDE-FA6C-41D7-8EE6-1FBD7B60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6D0B-BA8B-4114-A28C-543B4344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1865D-6CEC-4511-AB28-45ED32BE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2EC2-0471-48CD-9C2A-582F10CB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52FA-20F5-4294-9406-CFD236A2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33A1-102F-4FAF-AB9D-97E0BE45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0DDC4-A843-4704-B1F2-A55A0388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DDC-EFC6-44FB-A7AD-405FB5CF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F3D5-3F8A-4BD8-BCCC-A829D18A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EB61-47CF-42FA-80F6-001825D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538B-5BCC-492E-8FC3-0F4092F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2AB5-337D-4C03-AE75-CA882C2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8F4F-CF3C-41B0-9594-CBEA1CA1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B366-80EA-41B8-A53B-1D1BC4DA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8939-4DF1-4DE4-BDAB-7B5C1BD5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5278-C31E-40A7-A743-038B4CBF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2FC7-4B51-4C1B-A098-BCB4FCE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6FE2-EE04-450A-BE7A-53FB846E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3BD-0E48-422E-AB55-97208F78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9778-3F98-4A88-8945-5D49A7F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C4C2-F41C-4B1D-9E6D-7F524988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90D6-A68D-48EB-B757-A36C2E97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9C62-C1F0-497F-BDEF-C65C547B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D096-7380-47FA-820D-EABE617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0198-D6C9-4ADE-89B3-95E0C97A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F8B96-2F61-4A64-A1E8-2402CEEC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8905-E752-4E29-A61F-DFACDD67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A741-F495-477C-AEBB-F5C9A5F8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3927A-688C-48D2-B710-C7628EF5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A36-5CE5-49C4-9C93-D8CF5556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BC68-0B35-40CD-9C30-D8CC153C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67E4D-6E07-4E0F-A67E-42F45361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27F2-476A-46C8-84AD-9BDE631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8F6DB-579C-43F5-946D-4F2CFFDC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2F2D-2732-40C3-9FE7-2E2FABE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7A57-B1B3-4E11-A66D-5D4288B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FF29-DD80-4913-A41B-032AB429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2797D-AF19-4D4E-8E3B-F3400D1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B0BC-B7E1-46DC-8E12-95C0C94D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EEC2-A771-40EE-8AFD-57A1EC1A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C17-F23F-402E-A41B-4A341B29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23BB2-8CBE-46A0-9949-19ADE769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5B3D1-6312-4356-8669-750AF8D4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0C88-050A-48E1-B3E3-CAA93879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C2F9-C199-43E5-9209-29341E2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0083-E303-4D6E-806D-FE33E140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5AFA-586F-4AB3-8D7D-A44AF733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3922F-4A9B-4A03-85B0-DE361E62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A4E0-115E-4BAB-AFE9-9A1D981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2C8F-A9BE-4A25-B8C3-9E2C82F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1882-BF8A-4B61-B409-252CF1B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114-73C7-4E1B-8EFD-2677BAB0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E77F-D183-46DD-9F47-B8A455A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3729-2128-4F72-91A2-78B58E73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01A4F-92E2-4DF1-AD64-6A6F8254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E260-45C6-471E-927D-EF907813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06A88-80A1-451F-BFBC-5A188A41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24BC-9E28-4FBC-8BF3-A8DD190D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0E19-A1A5-42C9-82BD-A4994C6B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9B1C3-F8DA-415D-8CA3-C779A211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56260-71E6-4670-95A1-CCA90A02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0B40-6925-4096-985E-8C7E4B7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211-54EB-47CF-9137-4BD2BFE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0D705-2477-40E3-9FE9-305B0135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08501-45AC-4FB5-8772-DF2D781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3B47D-F0A6-48EE-BE16-DBBA75A8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F734C-A778-4E98-A9B0-CC9B5DE2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B6F1-8380-444F-B53E-4FA85EEE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35C7-0649-4E77-9163-ED422887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DDFA9-BA35-444C-92FC-94C0E0E2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F36ED-33C4-467E-BAB5-419D1283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4EC4-5160-4655-8990-6F0FA879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62BD1-AACF-45FF-8220-85EE98D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01B-7669-4406-8F83-4106577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009440" y="453600"/>
            <a:ext cx="1817028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F97C0-E327-42A1-8246-E40F11D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D49B-3B7E-46B7-93C5-6EDA53D4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C368-E01B-40C2-9ADC-7EC9196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E0D57-916C-435D-9032-7BC5023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09440" y="6564960"/>
            <a:ext cx="1817028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614A0-93C4-413D-958A-9B1784AC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0320120" y="264924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0944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0320120" y="6564960"/>
            <a:ext cx="886680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47823-E1AF-4C4B-9B9F-474FEE51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32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296600" y="264924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0944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71532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3296600" y="6564960"/>
            <a:ext cx="5850720" cy="35755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1D3F9-230C-4F77-A82C-5DF24D81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82CF5-4CC6-4435-8FFC-02C859E9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EBE30-1139-4E33-B4ED-26CDF9BB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45945-E074-4897-873B-B74A03D3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C85152C6-8896-4AD7-9DD0-AFFB7FF6041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9DBFB69D-5A8A-42AF-B98B-B489F305A65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AEB5F120-2358-494A-8C2C-86696E5E2EF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A9272C38-A342-4590-A3F1-2B6C3A01D37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44EC14AF-497B-4524-8F72-9FB2CF56979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7D4BF65A-B99E-499D-9A7A-4DA3AAD74BF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C6B931AE-E798-4535-84DA-1DB67379E82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FC83E347-DA86-4257-91F6-4FBC978D263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AA6247EB-9303-403B-9361-79D663C934A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56FE51A6-B6DA-4129-A6BA-D4EBF2E677B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DCDC8B97-3A89-452A-B7E4-D3060E23B88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009440" y="2649240"/>
            <a:ext cx="18170280" cy="74962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 fontScale="92000"/>
          </a:bodyPr>
          <a:p>
            <a:pPr marL="620640" indent="-6206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346400" indent="-51696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072160" indent="-4132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2901960" indent="-4132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3729960" indent="-41328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0094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6897240" y="10526760"/>
            <a:ext cx="63946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4469840" y="10526760"/>
            <a:ext cx="4709880" cy="6048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lstStyle>
            <a:lvl1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578FE680-6954-4937-B81F-4DCFFA4E516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1179360" y="725400"/>
            <a:ext cx="17830800" cy="1001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09440" y="453600"/>
            <a:ext cx="1817028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de-DE" sz="8700" spc="-1" strike="noStrike">
                <a:solidFill>
                  <a:srgbClr val="000000"/>
                </a:solidFill>
                <a:latin typeface="Calibri"/>
              </a:rPr>
              <a:t>So verwenden Sie diese Vorlage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009440" y="2649240"/>
            <a:ext cx="18170280" cy="787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Die leere Folie unten ist die Leinwand, auf der Sie Ihr ganz eigenes Header-Bild erstellen können! Sie hat bereits das richtige Format für die Maße, die für Google+ benötigt werd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e passen die Vorlage an, indem Sie Bilder einbauen. Verwenden Sie dazu „Bild einfügen“ oder „Form einfügen“ und stellen Sie eigene Grafiken her.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it unterschiedlichen Schriftarten, Hintergrundfarben und Effekten können Sie Ihr Titelbild aus der Masse hervorhebe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nn Sie fertig sind, speichern Sie die Datei als Bild (über das Datei-Menü oder das Rechtsklick-Kontextmenü). Damit wird die Folie automatisch als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ild gespeichert, das Sie als Google+-Titelbild hochladen könne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22200" y="3526920"/>
            <a:ext cx="14144760" cy="24354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de-DE" sz="7200" spc="-1" strike="noStrike">
                <a:solidFill>
                  <a:srgbClr val="000000"/>
                </a:solidFill>
                <a:latin typeface="Calibri"/>
              </a:rPr>
              <a:t>Für Google+ benötigen Sie ein </a:t>
            </a:r>
            <a:br>
              <a:rPr sz="7200"/>
            </a:br>
            <a:r>
              <a:rPr b="0" lang="de-DE" sz="7200" spc="-1" strike="noStrike">
                <a:solidFill>
                  <a:srgbClr val="000000"/>
                </a:solidFill>
                <a:latin typeface="Calibri"/>
              </a:rPr>
              <a:t>Bild mit 2120 x 1192 Pixeln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4"/>
          <p:cNvCxnSpPr/>
          <p:nvPr/>
        </p:nvCxnSpPr>
        <p:spPr>
          <a:xfrm>
            <a:off x="1052280" y="1136160"/>
            <a:ext cx="1080" cy="90846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cxnSp>
        <p:nvCxnSpPr>
          <p:cNvPr id="497" name="Straight Arrow Connector 6"/>
          <p:cNvCxnSpPr/>
          <p:nvPr/>
        </p:nvCxnSpPr>
        <p:spPr>
          <a:xfrm flipH="1">
            <a:off x="5573160" y="10037520"/>
            <a:ext cx="904284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sp>
        <p:nvSpPr>
          <p:cNvPr id="498" name="Title 1"/>
          <p:cNvSpPr/>
          <p:nvPr/>
        </p:nvSpPr>
        <p:spPr>
          <a:xfrm>
            <a:off x="8488440" y="8383680"/>
            <a:ext cx="3214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0" rIns="151200" tIns="75600" bIns="7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00000"/>
                </a:solidFill>
                <a:latin typeface="Calibri"/>
              </a:rPr>
              <a:t>2120 px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itle 1"/>
          <p:cNvSpPr/>
          <p:nvPr/>
        </p:nvSpPr>
        <p:spPr>
          <a:xfrm>
            <a:off x="860400" y="4707000"/>
            <a:ext cx="3214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0" rIns="151200" tIns="75600" bIns="7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00000"/>
                </a:solidFill>
                <a:latin typeface="Calibri"/>
              </a:rPr>
              <a:t>1192 px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1"/>
          <a:srcRect l="0" t="7810" r="0" b="7810"/>
          <a:stretch/>
        </p:blipFill>
        <p:spPr>
          <a:xfrm>
            <a:off x="-12600" y="0"/>
            <a:ext cx="20189880" cy="11356920"/>
          </a:xfrm>
          <a:prstGeom prst="rect">
            <a:avLst/>
          </a:prstGeom>
          <a:ln w="0">
            <a:noFill/>
          </a:ln>
        </p:spPr>
      </p:pic>
      <p:sp>
        <p:nvSpPr>
          <p:cNvPr id="501" name="TextBox 3"/>
          <p:cNvSpPr/>
          <p:nvPr/>
        </p:nvSpPr>
        <p:spPr>
          <a:xfrm rot="20238600">
            <a:off x="5697360" y="4313880"/>
            <a:ext cx="9088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0" rIns="151200" tIns="75600" bIns="75600" anchor="t">
            <a:spAutoFit/>
          </a:bodyPr>
          <a:p>
            <a:pPr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de-DE" sz="15900" spc="-1" strike="noStrike">
                <a:solidFill>
                  <a:srgbClr val="ff0000"/>
                </a:solidFill>
                <a:latin typeface="Calibri"/>
              </a:rPr>
              <a:t>BEISPIEL</a:t>
            </a:r>
            <a:endParaRPr b="0" lang="en-US" sz="1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itle 1"/>
          <p:cNvSpPr/>
          <p:nvPr/>
        </p:nvSpPr>
        <p:spPr>
          <a:xfrm>
            <a:off x="1514520" y="3527280"/>
            <a:ext cx="171608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0" rIns="151200" tIns="75600" bIns="7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000000"/>
                </a:solidFill>
                <a:latin typeface="Calibri"/>
              </a:rPr>
              <a:t>Löschen Sie dieses Textfeld und platzieren </a:t>
            </a:r>
            <a:br>
              <a:rPr sz="7000"/>
            </a:br>
            <a:r>
              <a:rPr b="0" lang="de-DE" sz="7000" spc="-1" strike="noStrike">
                <a:solidFill>
                  <a:srgbClr val="000000"/>
                </a:solidFill>
                <a:latin typeface="Calibri"/>
              </a:rPr>
              <a:t>Sie Ihr Bild/Design hier.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64600" y="453600"/>
            <a:ext cx="19507320" cy="18939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de-DE" sz="8700" spc="-1" strike="noStrike">
                <a:solidFill>
                  <a:srgbClr val="000000"/>
                </a:solidFill>
                <a:latin typeface="Calibri"/>
              </a:rPr>
              <a:t>Gefällt Ihnen diese Vorlage? Teilen Sie sie!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09440" y="3387240"/>
            <a:ext cx="18170280" cy="4583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000" bIns="9000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Klicken Sie auf die Symbole, um diese </a:t>
            </a:r>
            <a:br>
              <a:rPr sz="6000"/>
            </a:b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Vorlage auf Social Media zu teilen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5294160" y="6573960"/>
            <a:ext cx="2427480" cy="24271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2"/>
          <a:stretch/>
        </p:blipFill>
        <p:spPr>
          <a:xfrm>
            <a:off x="12533400" y="657396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3"/>
          <a:stretch/>
        </p:blipFill>
        <p:spPr>
          <a:xfrm>
            <a:off x="8908920" y="657216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21:54:18Z</dcterms:created>
  <dc:creator>Shannon Johnson</dc:creator>
  <dc:description/>
  <dc:language>en-US</dc:language>
  <cp:lastModifiedBy>Virginia Vitantonio</cp:lastModifiedBy>
  <dcterms:modified xsi:type="dcterms:W3CDTF">2016-10-14T17:20:20Z</dcterms:modified>
  <cp:revision>12</cp:revision>
  <dc:subject/>
  <dc:title>How To Use This Template</dc:title>
</cp:coreProperties>
</file>