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8099425" cy="2998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-738360" y="1142640"/>
            <a:ext cx="83347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fld id="{0BE7E9A4-01DC-40CF-9CEC-A1C85502EEB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-738360" y="1143000"/>
            <a:ext cx="8334720" cy="308628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游ゴシック"/>
              <a:ea typeface="游ゴシック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fld id="{0533C0E4-BE07-4D14-A88F-B8D2B8BB651A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02AA-57C0-4B75-B9E3-A25B42E6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5EB-C54A-4F62-BD90-7DCC601C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FC0D7-94B0-41C5-ADA8-EFB63E17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77F90-12DF-4BD3-9598-D53E861D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04640" y="120240"/>
            <a:ext cx="7291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F8A6B-E96B-477C-8141-73A2E9E4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29823-D6DB-4361-B59B-84393FAF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C303A-F8A2-4C52-B2E5-5A7F0AFF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E1920-2D40-4572-A5C6-77E10E24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2374B-BCDF-422E-B664-6A703E2B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0C750-61D9-433C-B0BE-3F2C8A96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86992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33520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0464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286992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33520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CD1FA-E3A1-405B-873B-57FE0740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23686-E429-42B9-8441-4155A625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4B2-F0EF-4D48-99E1-DD00A478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F0E2D-1E97-4548-AC2E-6B9AFB25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75216-6BFB-40B6-8A43-D4B26E9E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71091-4544-4255-9048-B070A73E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08CBE-60D7-46F9-A3CA-0203723B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04640" y="120240"/>
            <a:ext cx="7291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6252C-8212-441C-8AD0-802EC7DD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741FB-BBC7-4033-8620-6DA4C529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FC2F0-A0D1-4CD2-919C-05643288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59ADF-C9F6-4F55-877B-70AF430D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33181-1E79-4E81-9065-0E0D863E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F8279-3281-4BF9-A3BF-E7DF0FB8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6992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464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6992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3520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258-B7B6-4C0D-A233-D30A11B6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86992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33520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0464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286992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33520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47903-6257-4BCA-866F-96E9F751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EEA65-4AC6-400F-9DB9-FFC213E0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27F7C-1BE0-4D6F-875E-E5E31F22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E669B-6DBA-4A4D-8BFB-8CF09680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7A392-EFB1-40A2-967F-8E7BC2DC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B09A7-EB20-4AFA-8041-BA32B80E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04640" y="120240"/>
            <a:ext cx="7291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4B697-55AB-4646-B8A1-82FAAEF1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B7AB5-18E7-498C-8837-556C31C1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C03E8-ED05-4DB6-8F52-C6ED1429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D8A6A-5530-4893-ADA4-891C7125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9846-FE5F-4E27-BF2C-BB4E89A2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B5A60-8CFC-45ED-A0CC-FB16EB95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F995E-C041-40F8-A1DB-5D29E8EF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86992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33520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0464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86992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33520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8EC09-1C3B-4388-A9F6-F3EE8491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8996B-AAF4-45B8-A8B1-FEA1AB68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6FB1D-A31B-41B6-8AD1-59B516BE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4EDAE-785D-4CAA-8840-582EB99D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278B3-D0D4-4B03-B884-AEFFD997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76676-BC8B-4C37-875B-A25616B7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04640" y="120240"/>
            <a:ext cx="7291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D65F8-24D3-4B80-B0D5-4FA45AA0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FB09F-7576-4A39-95A3-87849465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4147-787D-4DAC-9ECE-E57D0AF6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E3907-3295-472E-B3BF-DD05D49D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C7045-83F6-402A-A306-0493281C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0DB1B-A3C7-4D6F-A04F-A88B9957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1AEE6-2D1D-42AB-B69F-0491A797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86992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33520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0464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86992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33520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B834C-0997-48C8-BFBA-3CC27FF1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ED2F-1AFD-4565-9BA8-741A4EA4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B38E-E284-4E3D-AC32-34C5C9A8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745F-C80A-47B5-9DB6-E17CDEEF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4640" y="120240"/>
            <a:ext cx="7291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AE8A-0896-4076-A12A-0113492D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CC59-373D-4418-A9E6-2C6430A0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C02-FEAC-4A3E-B17C-8300EF51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2B56-E2E0-4D03-A576-A1CA660C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15E9-A51A-4B43-8F60-493D045E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3198-195D-4612-858D-7E36F342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7A81-4C97-42A0-8802-E4CC9643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6992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464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6992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3520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8343-6F08-4A02-B467-8D5AEA6E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022BF-16F7-4587-8936-FC5C9B80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6A632-9A43-4E1A-98CE-A1CF0E12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461AB-B630-4E3E-80DC-96DA084E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E019E-297F-4C86-95F3-3201F995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B8E0C-2F0B-4163-98E4-5B9EBCA7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FEE-4041-43F0-A58E-0B04F66F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04640" y="120240"/>
            <a:ext cx="7291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DC9FD-2896-459E-AA50-800158AC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EB0F7-2E3E-4E9E-983C-FDF921DF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1B86E-40E3-43E3-87F8-730F3D32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4CF2D-3BF9-4AC2-897A-88E5B5AC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6A557-D90E-4542-BC6D-A2E00424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4017E-0742-4BED-9DCE-1D58FF27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86992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0464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86992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33520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72DC3-4CC0-4045-9EE7-5DC11C1B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3A7A5-A663-49A4-976F-F38D4CF0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D31BC-2F8A-467D-9E8F-1CA9220A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49F53-BDBA-4D6D-A20A-7088083E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D50-F2C1-4975-9A2C-5056C610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87975-27E6-4EE4-A750-A111EC34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EA699-9D04-4C4F-94B0-E0CAEBDC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04640" y="120240"/>
            <a:ext cx="7291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A298D-25A7-490D-8B87-70AF65B3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9389C-EC11-4F8E-B16D-D2CD338C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B8FA2-B329-41D4-9444-1166D6A0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6820A-6589-42A7-8863-AE773CFC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942F6-5B88-4BC4-9CE2-80FAB40F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0FF00-6D59-4CE1-B213-25742757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86992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3520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0464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86992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33520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B01E2-878C-4476-AE3D-BFE82EC2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335AF-18CE-4965-8F78-D177309A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2B03-E157-49C6-9A1D-14175BDA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3B6E3-EB47-4C66-9086-8E40E917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185A4-DFC5-4836-BC21-078DCA14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E141C-50D2-45AB-AC29-A70F9F79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AA792-D2EF-496A-8868-DE3936CD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04640" y="120240"/>
            <a:ext cx="7291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9DC4B-0D06-40A4-9F87-89FFAB40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B0B59-80EE-4E30-92AC-2EEF9E9E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B3F42-4A9F-4EA3-AAE7-31E39A2D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CD98C-81B5-407E-9200-1A65AAFA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42AB9-A99C-414B-A8C8-C5475A55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2A9B4-F351-4515-A13D-92CCE5B6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4640" y="120240"/>
            <a:ext cx="7291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A09-5EFA-4AF2-8B40-C911E9AA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86992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0464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86992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33520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8AD63-C1F0-48CC-BE2A-67AB69DA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02564-336A-4C76-81B9-26A78777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E20C1-C31E-48B3-BE44-7B06E9F9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02A5D-4729-402C-96F9-50951301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7AD42-E7E8-4694-B49A-336858BD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58D3D-0980-40AD-ADFF-83D0CF85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04640" y="120240"/>
            <a:ext cx="7291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C0927-B6EC-41C7-AB2C-D88D2F18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46921-820B-49AB-B648-51EE3BE7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FF40F-AAE7-42DE-8616-8071F00B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804F3-93A8-427B-8959-864F52E6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981-AB2B-4633-BC04-72FB9855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14945-C4C4-481B-9955-30A64707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D4865-34CF-4F88-B857-CFE0CDD6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86992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33520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0464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86992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33520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0FB63-17A1-4485-9327-A82F45F2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1935F-77D2-4944-B4ED-F5C8ABCC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5ACA0-7CBA-4F38-A9C9-CD131A03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91541-4728-4F6D-9740-E73831F9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B5642-C85D-43E4-AEC8-7ACA4C3A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E08A3-4E53-4538-AF51-555CD3EB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04640" y="120240"/>
            <a:ext cx="7291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6D974-B08C-4E29-9859-35AFED11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F94DF-64E6-4F95-8147-2A2A2DD4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9562-5376-4A56-8B53-1CF2FE90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173C6-A478-4EB3-AC3E-D3709D35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302FC-2733-4EE9-A5AB-8FF5ED5E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616A9-174E-4DAB-9330-26572BAB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01FB3-DBC2-474C-99C0-C05A171F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6992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33520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0464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86992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33520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8791F-2B31-4569-B258-D9380823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A9367-CFE5-49AA-BDAF-E2C86C59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72BF0-302F-4DCB-82B4-4FA69670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FB79F-E1AD-4687-9C1C-34AF714B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687B3-1408-4672-8FFF-A3B67AEA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B742E-4BAB-4938-8D69-E000A500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A29E-9F78-4B87-8D34-8EF97033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04640" y="120240"/>
            <a:ext cx="7291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38BE1-84F9-4E95-A36E-12421773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042BC-DF7F-4894-960D-608D8453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45057-14ED-4A2C-A296-B05084E1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BC3F1-451B-4EB0-BA99-F534298D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04640" y="1733400"/>
            <a:ext cx="729144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DEDFB-59B7-4B10-B0B9-1BAA03A5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140720" y="7002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0464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140720" y="1733400"/>
            <a:ext cx="355788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14A43-9EDF-4005-BCE3-D57D685D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86992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35200" y="7002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0464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286992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335200" y="1733400"/>
            <a:ext cx="2347560" cy="94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0F5A8-A1D5-4827-A03C-F1F2A1D1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E0C43-6ED8-4A8B-A33E-F1839834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6CFE9-FC7F-4153-98CC-5CE0973B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4640" y="101520"/>
            <a:ext cx="7291440" cy="53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CC498-0EED-4172-8EBA-577431B5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4640" y="120240"/>
            <a:ext cx="7291440" cy="498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 fontScale="69000"/>
          </a:bodyPr>
          <a:p>
            <a:pPr marL="163080" indent="-16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54960" indent="-135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46480" indent="-10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765360" indent="-1080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464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68400" y="2779200"/>
            <a:ext cx="256356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0536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fld id="{AC56ECD7-1517-4FDA-8DF6-BF5BD451EFA3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04640" y="120240"/>
            <a:ext cx="7291440" cy="498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 fontScale="69000"/>
          </a:bodyPr>
          <a:p>
            <a:pPr marL="163080" indent="-16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54960" indent="-135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46480" indent="-10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765360" indent="-1080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0464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768400" y="2779200"/>
            <a:ext cx="256356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580536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fld id="{EFA8311E-3C66-4A04-8202-2137EA7F660D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04640" y="120240"/>
            <a:ext cx="7291440" cy="498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 fontScale="69000"/>
          </a:bodyPr>
          <a:p>
            <a:pPr marL="163080" indent="-16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54960" indent="-135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46480" indent="-10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765360" indent="-1080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0464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768400" y="2779200"/>
            <a:ext cx="256356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580536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fld id="{D435FF6B-CDA0-4F6E-98D8-2551DFB4796C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04640" y="120240"/>
            <a:ext cx="7291440" cy="498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 fontScale="69000"/>
          </a:bodyPr>
          <a:p>
            <a:pPr marL="163080" indent="-16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54960" indent="-135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46480" indent="-10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765360" indent="-1080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0464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768400" y="2779200"/>
            <a:ext cx="256356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580536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fld id="{455E971B-2232-412F-A5F7-9A41554E457D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120240"/>
            <a:ext cx="7291440" cy="498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 fontScale="69000"/>
          </a:bodyPr>
          <a:p>
            <a:pPr marL="163080" indent="-16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54960" indent="-135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46480" indent="-10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765360" indent="-1080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0464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768400" y="2779200"/>
            <a:ext cx="256356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80536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fld id="{2B09A204-9E19-4402-A079-B99E6D72D8D6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4640" y="120240"/>
            <a:ext cx="7291440" cy="498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 fontScale="69000"/>
          </a:bodyPr>
          <a:p>
            <a:pPr marL="163080" indent="-16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54960" indent="-135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46480" indent="-10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765360" indent="-1080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0464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768400" y="2779200"/>
            <a:ext cx="256356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580536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fld id="{20712CE9-EF9A-4827-9B86-8CE5938C898B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4640" y="120240"/>
            <a:ext cx="7291440" cy="498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 fontScale="69000"/>
          </a:bodyPr>
          <a:p>
            <a:pPr marL="163080" indent="-16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54960" indent="-135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46480" indent="-10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765360" indent="-1080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0464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768400" y="2779200"/>
            <a:ext cx="256356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580536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fld id="{CACFC9C6-49A7-4900-92DC-7E412A5D1072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4640" y="120240"/>
            <a:ext cx="7291440" cy="498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 fontScale="69000"/>
          </a:bodyPr>
          <a:p>
            <a:pPr marL="163080" indent="-16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54960" indent="-135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46480" indent="-10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765360" indent="-1080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0464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768400" y="2779200"/>
            <a:ext cx="256356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580536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fld id="{A15DBBC6-08D2-4231-B710-5DB4CB8487F2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4640" y="120240"/>
            <a:ext cx="7291440" cy="498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 fontScale="69000"/>
          </a:bodyPr>
          <a:p>
            <a:pPr marL="163080" indent="-16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54960" indent="-135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46480" indent="-10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765360" indent="-1080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0464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768400" y="2779200"/>
            <a:ext cx="256356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580536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fld id="{E2F9FA94-4F91-497E-9724-81A7F8BA0727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4640" y="120240"/>
            <a:ext cx="7291440" cy="498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 fontScale="69000"/>
          </a:bodyPr>
          <a:p>
            <a:pPr marL="163080" indent="-16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54960" indent="-135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46480" indent="-10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765360" indent="-1080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0464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768400" y="2779200"/>
            <a:ext cx="256356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580536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fld id="{97B6EDBF-689E-4199-973E-F0CC730A333C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4640" y="120240"/>
            <a:ext cx="7291440" cy="498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 fontScale="69000"/>
          </a:bodyPr>
          <a:p>
            <a:pPr marL="163080" indent="-16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54960" indent="-135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46480" indent="-10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765360" indent="-1080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0464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768400" y="2779200"/>
            <a:ext cx="256356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580536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fld id="{3F0E9768-8B8C-442C-9A9E-2BC0C3AECD35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4640" y="120240"/>
            <a:ext cx="7291440" cy="498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04640" y="700200"/>
            <a:ext cx="7291440" cy="197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 fontScale="69000"/>
          </a:bodyPr>
          <a:p>
            <a:pPr marL="163080" indent="-16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54960" indent="-135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46480" indent="-10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765360" indent="-1080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983520" indent="-1083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0464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9/2/20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768400" y="2779200"/>
            <a:ext cx="256356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5805360" y="2779200"/>
            <a:ext cx="1890720" cy="1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lstStyle>
            <a:lvl1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fld id="{E9EEA45C-51DF-4817-8EF5-2F2D2E8EB214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379520" y="0"/>
            <a:ext cx="534204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04640" y="120240"/>
            <a:ext cx="7291440" cy="498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 verwenden Sie diese Vorl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04280" y="700200"/>
            <a:ext cx="7409160" cy="2077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 fontScale="99000"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e leere Folie unten ist die Leinwand, auf der Sie Ihr ganz eigenes Header-Bild erstellen können! Sie hat bereits das richtige Format für die Maße, die für Facebook benötigt werde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e passen die Vorlage an, indem Sie Bilder einbauen. Verwenden Sie dazu „Bild einfügen“ 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der „Form einfügen“ und stellen Sie eigene Grafiken her. Mit unterschiedlichen Schriftarten, Hintergrundfarben und Effekten können Sie Ihr Titelbild aus der Masse hervorheben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nn Sie fertig sind, speichern Sie die Datei als Bild (über das Datei-Menü oder das Rechtsklick-Kontextmenü). Damit wird die Folie automatisch als Bild gespeichert, das Sie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s Facebook-Titelbild hochladen können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239760" y="1998720"/>
            <a:ext cx="1612800" cy="998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rofilfoto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Überlapp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82280" y="931680"/>
            <a:ext cx="4735800" cy="642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ür Facebook benötigen Sie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in Bild mit 851 x 315 Pixel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4" name="Straight Arrow Connector 4"/>
          <p:cNvCxnSpPr/>
          <p:nvPr/>
        </p:nvCxnSpPr>
        <p:spPr>
          <a:xfrm>
            <a:off x="421920" y="299880"/>
            <a:ext cx="1080" cy="23994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headEnd len="lg" type="arrow" w="lg"/>
            <a:tailEnd len="lg" type="arrow" w="lg"/>
          </a:ln>
        </p:spPr>
      </p:cxnSp>
      <p:cxnSp>
        <p:nvCxnSpPr>
          <p:cNvPr id="505" name="Straight Arrow Connector 6"/>
          <p:cNvCxnSpPr/>
          <p:nvPr/>
        </p:nvCxnSpPr>
        <p:spPr>
          <a:xfrm flipH="1">
            <a:off x="2235960" y="2650680"/>
            <a:ext cx="3628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headEnd len="lg" type="arrow" w="lg"/>
            <a:tailEnd len="lg" type="arrow" w="lg"/>
          </a:ln>
        </p:spPr>
      </p:cxnSp>
      <p:sp>
        <p:nvSpPr>
          <p:cNvPr id="506" name="Title 1"/>
          <p:cNvSpPr/>
          <p:nvPr/>
        </p:nvSpPr>
        <p:spPr>
          <a:xfrm>
            <a:off x="3405240" y="2170080"/>
            <a:ext cx="1290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851 p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itle 1"/>
          <p:cNvSpPr/>
          <p:nvPr/>
        </p:nvSpPr>
        <p:spPr>
          <a:xfrm>
            <a:off x="206280" y="1243080"/>
            <a:ext cx="1290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315 p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"/>
          <p:cNvPicPr/>
          <p:nvPr/>
        </p:nvPicPr>
        <p:blipFill>
          <a:blip r:embed="rId1"/>
          <a:srcRect l="4197" t="32754" r="0" b="19355"/>
          <a:stretch/>
        </p:blipFill>
        <p:spPr>
          <a:xfrm>
            <a:off x="0" y="0"/>
            <a:ext cx="8101080" cy="2998800"/>
          </a:xfrm>
          <a:prstGeom prst="rect">
            <a:avLst/>
          </a:prstGeom>
          <a:ln w="0">
            <a:noFill/>
          </a:ln>
        </p:spPr>
      </p:pic>
      <p:sp>
        <p:nvSpPr>
          <p:cNvPr id="509" name="TextBox 3"/>
          <p:cNvSpPr/>
          <p:nvPr/>
        </p:nvSpPr>
        <p:spPr>
          <a:xfrm rot="20238600">
            <a:off x="2612880" y="1041480"/>
            <a:ext cx="287172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spAutoFit/>
          </a:bodyPr>
          <a:p>
            <a:pPr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de-DE" sz="5600" spc="-1" strike="noStrike">
                <a:solidFill>
                  <a:srgbClr val="ff0000"/>
                </a:solidFill>
                <a:latin typeface="Calibri"/>
              </a:rPr>
              <a:t>BEISPI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239760" y="1998720"/>
            <a:ext cx="1612800" cy="998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rofilfoto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Überlapp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itle 1"/>
          <p:cNvSpPr/>
          <p:nvPr/>
        </p:nvSpPr>
        <p:spPr>
          <a:xfrm>
            <a:off x="608040" y="731880"/>
            <a:ext cx="68850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öschen Sie dieses Textfeld und die Hilfslinie für den Überlappungsbereich mit dem Profilfoto und platzieren Sie Ihr Bild/Design hier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39760" y="1998720"/>
            <a:ext cx="1612800" cy="998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rofilfoto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Überlapp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4640" y="120240"/>
            <a:ext cx="7291440" cy="498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fällt Ihnen diese Vorlage? Teilen Sie si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33200" y="1123920"/>
            <a:ext cx="7834320" cy="750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t">
            <a:normAutofit/>
          </a:bodyPr>
          <a:p>
            <a:pPr algn="ctr">
              <a:spcBef>
                <a:spcPts val="524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cken Sie auf die Symbole, um diese Vorlage auf Social Media zu teil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9" descr=""/>
          <p:cNvPicPr/>
          <p:nvPr/>
        </p:nvPicPr>
        <p:blipFill>
          <a:blip r:embed="rId1"/>
          <a:stretch/>
        </p:blipFill>
        <p:spPr>
          <a:xfrm>
            <a:off x="2840040" y="1806480"/>
            <a:ext cx="603360" cy="6080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"/>
          <p:cNvPicPr/>
          <p:nvPr/>
        </p:nvPicPr>
        <p:blipFill>
          <a:blip r:embed="rId2"/>
          <a:stretch/>
        </p:blipFill>
        <p:spPr>
          <a:xfrm>
            <a:off x="4695840" y="1801800"/>
            <a:ext cx="608040" cy="611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1" descr=""/>
          <p:cNvPicPr/>
          <p:nvPr/>
        </p:nvPicPr>
        <p:blipFill>
          <a:blip r:embed="rId3"/>
          <a:stretch/>
        </p:blipFill>
        <p:spPr>
          <a:xfrm>
            <a:off x="3738600" y="1806480"/>
            <a:ext cx="6062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4T21:14:57Z</dcterms:created>
  <dc:creator>Shannon Johnson</dc:creator>
  <dc:description/>
  <dc:language>en-US</dc:language>
  <cp:lastModifiedBy>Virginia Vitantonio</cp:lastModifiedBy>
  <dcterms:modified xsi:type="dcterms:W3CDTF">2016-10-14T17:19:25Z</dcterms:modified>
  <cp:revision>16</cp:revision>
  <dc:subject/>
  <dc:title>How To Use This Template</dc:title>
</cp:coreProperties>
</file>