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4292263" cy="4762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3FF-4265-4CBF-A9A9-0A4B371C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FD2-084E-4819-8D3A-C7E17F0E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154B7-5C6C-4B9E-830D-22DC395A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53660-B671-43C4-A85E-8B13B422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08334-07B4-414A-A269-1BD57E6C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A0EC1-2AE8-438F-8EE2-695F227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0399-6808-4344-849A-16F1D37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3C313-7097-4FDE-974E-B197F8B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86733-2D94-41D8-9ED7-661D4878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99805-0004-467D-8490-E864F4CF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2A5D4-A544-4E3A-BFF1-755EDC4A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02ADA-8DFF-4E6F-8B11-5461E18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6A1-8A6A-4A3A-9CFE-03795162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3E52-D937-4011-8A42-33119F7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A8705-7895-445F-9886-6FA6F3F1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7637-E0A6-4F5B-90D6-C31FAB0C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9067D-E5AF-47E0-8F0F-D45EF14C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E902E-6345-4F11-ABB3-C8A5DEB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9A45-7FAB-4FA3-AF5A-E2850EA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03330-2229-4DFF-9F62-BB8A62B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2320B-1B8F-411C-BEEC-94816318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4B26D-3C26-43F9-BC5F-CDB1A60E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759D5-0DCE-4A0B-AA33-2B5A648C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077-EE70-4A2C-B115-491C7233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297F0-1603-468C-9888-D44E8C82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60D5-F51D-4CE9-BE73-367972AD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96384-26C4-4A82-9E1F-E9CE32C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6CB4A-0082-48A5-AD06-2DD4F0C6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7A151-10F3-4ECC-9EF7-D280A749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DC2A6-A532-49D8-B1B6-4707994F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F8C0E-8B8A-48A2-9244-C1ED8D3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A4447-FC02-4377-840C-48B56A8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95952-4ADB-4419-964B-B562B29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D7D5C-5C51-480A-81D4-C184223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7BD5-BE8B-486E-88AE-AAD5DDD1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DA2EC-51B1-4664-8165-93C00DE8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6B791-B6FD-439A-988E-90588991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345D5-6949-406D-B6B5-F3039CCB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1F2AB-1830-47FD-8E6F-2E5D22F7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B0B8B-61FF-4350-8BDB-F8D41064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52979-F0A4-4D5D-A127-F529D314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FB743-34B7-4ED7-9ABA-F2707B50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C2168-B5D4-47E9-9431-3CD3E1B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BEA2D-A446-4BA7-BA5B-DF2F3DA7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43501-38AE-40F4-BE22-543A3EEF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371F-123F-41CA-B246-EAF78752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028A-27D3-4296-A8FB-01DCC22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6D80D-8B22-43DA-BB67-4B7A8B1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E9792-ADAC-4236-BDA6-FAF71B6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6B490-A038-46F1-8C16-DB7BC612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D2890-486F-420F-B72F-D66FEB57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5BA2-A6AC-48D8-9C79-A7E8497B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2CA-DDC9-4320-9014-74EA621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D22C-2DE8-40D9-A234-2C16E8D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B28E-FC6E-4C90-B506-AA9060FF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CA65-62D3-4A6D-BAF5-A7D7F5E8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6DD-EE5B-4C5B-9414-1E9BD0A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2641-ABDE-4254-AE71-7C1CC2D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63A1-E62C-4DF2-8214-B68EFAB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936B-0339-433D-BE14-E1BECFDD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8521-D685-4055-AD9C-37C6D400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B674-96E6-49C1-BB72-C1C2EEFD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053F-7A78-408D-A554-FE41FDF7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D465-5BA2-468F-B29E-7C12F022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7470-E15B-4800-8E16-A8BC79B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382B-A8A5-4FA0-AD1D-3637235A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3772-D224-41FC-875C-ABAE47B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BCF-2C80-44DE-AA48-B46A323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5BF4-D5DB-44DE-8E27-E390E45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0AB3-453A-467C-A242-CBC1B6D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1A69-95E9-4004-B7FC-2FF8569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42CD-1CDF-4C15-8197-369EC7D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D6E0-C464-4EFB-8B58-BCE5F4F8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7210-D8E8-46E7-AD9C-80485F9B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454E-40A2-40BB-BF54-D7C574F9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A914-FE2E-46EC-A6D0-6C245808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70CB-F59D-42F0-B109-155D2169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0523-6B6D-411B-A4BA-CCDB55B8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2A1-B72D-446E-90C1-0ACAD266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C918-FD23-4145-A3EE-088C5AE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7742-0F32-41B6-99D1-33541505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95E9-77A1-4F1D-95FC-296260A0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6845-A3AD-4917-B0AF-A4E684A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D3703-09D0-4333-9695-F96D1AD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88DE-D772-4133-A241-474554B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8C74-0939-41EE-9E1A-07C9D779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9DBF-A8A5-4BE3-B19F-3F8A6FD4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A288C-B92A-4B4E-863F-A84EC906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208B-798E-46C8-9859-91BAAC56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29B-2CAC-49FD-94EB-A9D16F14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83806-696A-4231-8927-5D8335AA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0279-AC0E-4C5F-9741-2F8918FB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00E5-7570-4780-A8DF-695B42F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6622-9A19-4F58-BD00-FD42589C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8E5E-D51D-405A-83D9-FF55E6A1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3BC8-91A3-4BB0-B6D6-2DDF7182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836E-E34A-495A-8CB4-C043EBF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A540-50E1-465F-89B8-5FD89877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1A7C5-11FD-4C46-9759-D4F227DE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A9B73-B388-4391-A294-7C293F7A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195-1D91-416A-BFBD-3E0B0E20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4DA7-67EF-4325-8470-B83E1C5D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DB38-7628-4048-A889-14B66ECE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EE0EA-EB6C-4BD9-ABAC-013F342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6B34-DA7E-4C89-ABD6-F98A07C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E2E24-2D59-42DA-BDC3-8753402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FD6C-29A4-468B-8657-661B19A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10AF-9BFA-4799-BDBA-BFB1A85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2FBE4-A154-4F9C-BE1C-76BD46D3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7375-5B94-46F4-8956-22CC97AD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2936-1F1C-4377-8E98-C9651314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5A7-3AD2-4C78-B1E4-2E80015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D9C63-E8D4-4B29-B470-7CA0A6D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53690-7EC1-45CA-9F30-7EE38770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5446-CCFA-4801-9FB7-B8D61A4C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82AC-0CBB-4A55-AA4F-06DEA839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C88D0-292D-485F-8846-D6E85845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4B5F-DC2C-4F1C-8CA2-6A8BC34B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E96B-E4D9-452D-BD26-C94710B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C8A3-6C15-477B-B401-3611085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3C63-F0EF-4B7F-BE37-BF7AAD0D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53C9-8321-467A-B0AE-BF8AB41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F87-B18F-477D-9984-0904D2E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3C90B-54AD-4825-ADC9-7F99186E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F544-F8A8-40AE-B86C-3C72816F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63C3-B57E-409F-8B2A-226CE42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73E2E-095B-4C30-9EE1-3F880097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9C7A6-61EC-40B1-ACEA-6C1AD47C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D73A5-5FFF-478E-BD94-7E0E77FE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45048-665D-4584-A3AC-D5F15D42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CC31A-0EF8-4BF8-831C-CEF7A7B4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2F18-F013-4439-B989-B34989D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44332-3E13-4D84-A34B-BC554001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A12-87D3-4915-A1B5-45B7EB1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14240" y="190080"/>
            <a:ext cx="1286352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24902-2FCD-4F96-9E51-A5C9449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EFAD-F4CF-49C0-931D-2EF480F7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85096-84EA-4BB3-A519-2DA5137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E872-DC9C-451E-98F8-485A7C7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14240" y="2753640"/>
            <a:ext cx="1286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80CE-12E4-435C-934B-71F78967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305840" y="111096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142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7305840" y="2753640"/>
            <a:ext cx="62773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C7C67-732E-4AA6-B0FD-F8D02035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340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412920" y="111096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1424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506340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9412920" y="2753640"/>
            <a:ext cx="414180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C1FA-E4BC-4E06-9736-DE150A76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DFC75-9E7A-4785-81C9-DD3B0192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D3FFA-26B0-446A-AEE6-E41F9032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C3E28-4C5C-46C1-B3F3-F1E65DA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AAA8-60D1-46FD-9A48-3E35D2182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F2F8-F09F-408C-BF09-28DAE5611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25F7-06FE-4B04-8BBC-B8E5BA79D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E536-ED9E-431A-A0A5-B5884B478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8A7B-1025-4FC8-94C8-4B473A7FB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096D-8E0E-4287-8D78-14A946F83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2DC0-1820-473B-91FE-515E5AB0A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D714-009F-4AE5-9D57-5F5D7F553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4641-F998-49A1-A24E-4FA6365D1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F15D-E833-4A0B-8418-AD751F220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4B65-2F6F-4908-86B9-05A4A5B24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14240" y="1110960"/>
            <a:ext cx="1286352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13880" y="4414680"/>
            <a:ext cx="33354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883040" y="4414680"/>
            <a:ext cx="45259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0242720" y="4414680"/>
            <a:ext cx="33350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722C-76E6-4D92-8381-DBBB074A3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2882880" y="-4680"/>
            <a:ext cx="8526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o verwenden Sie diese Vorl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14240" y="1111320"/>
            <a:ext cx="12863520" cy="34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Die leere Folie unten ist die Leinwand, auf der Sie Ihr eigenes Header-Bild erstellen können.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Sie hat bereits das richtige Format für von Twitter die vorgegebenen Maß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Sie passen die Vorlage an, indem Sie Bilder einbauen. Verwenden Sie dazu die Funktionen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„Bild einfügen“ oder „Form einfügen“ und erstellen Sie so eigene Grafiken. Mit unterschiedlichen Schriftarten, Hintergrundfarben und Effekten können Sie Ihr Titelbild aus der Masse hervorhebe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Wenn Sie fertig sind, speichern Sie die Datei als Bild (über das Datei-Menü oder das Rechtsklick-Kontextmenü). Damit wird die Folie automatisch als Bild gespeichert, das Sie als Twitter-Titelbild hochladen könne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427120" y="1479600"/>
            <a:ext cx="943776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ür Twitter benötigen Sie ein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ild mit 1500 x 1500 Pixel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4"/>
          <p:cNvCxnSpPr/>
          <p:nvPr/>
        </p:nvCxnSpPr>
        <p:spPr>
          <a:xfrm>
            <a:off x="744120" y="477720"/>
            <a:ext cx="1080" cy="38109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cxnSp>
        <p:nvCxnSpPr>
          <p:cNvPr id="497" name="Straight Arrow Connector 6"/>
          <p:cNvCxnSpPr/>
          <p:nvPr/>
        </p:nvCxnSpPr>
        <p:spPr>
          <a:xfrm flipH="1">
            <a:off x="3944520" y="4211280"/>
            <a:ext cx="640152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sp>
        <p:nvSpPr>
          <p:cNvPr id="498" name="Title 1"/>
          <p:cNvSpPr/>
          <p:nvPr/>
        </p:nvSpPr>
        <p:spPr>
          <a:xfrm>
            <a:off x="6008760" y="3449520"/>
            <a:ext cx="22762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1500 p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itle 1"/>
          <p:cNvSpPr/>
          <p:nvPr/>
        </p:nvSpPr>
        <p:spPr>
          <a:xfrm>
            <a:off x="363600" y="1974960"/>
            <a:ext cx="22762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1500 p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1582560" y="3552840"/>
            <a:ext cx="1981440" cy="1211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Profilfoto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Überlapp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rcRect l="4197" t="32754" r="0" b="19355"/>
          <a:stretch/>
        </p:blipFill>
        <p:spPr>
          <a:xfrm>
            <a:off x="0" y="0"/>
            <a:ext cx="14292360" cy="4764240"/>
          </a:xfrm>
          <a:prstGeom prst="rect">
            <a:avLst/>
          </a:prstGeom>
          <a:ln w="0">
            <a:noFill/>
          </a:ln>
        </p:spPr>
      </p:pic>
      <p:sp>
        <p:nvSpPr>
          <p:cNvPr id="502" name="TextBox 3"/>
          <p:cNvSpPr/>
          <p:nvPr/>
        </p:nvSpPr>
        <p:spPr>
          <a:xfrm rot="20238600">
            <a:off x="4610880" y="1596960"/>
            <a:ext cx="506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Calibri"/>
              </a:rPr>
              <a:t>BEISPI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itle 1"/>
          <p:cNvSpPr/>
          <p:nvPr/>
        </p:nvSpPr>
        <p:spPr>
          <a:xfrm>
            <a:off x="1071720" y="1479600"/>
            <a:ext cx="121489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  <a:ea typeface="Arial"/>
              </a:rPr>
              <a:t>Löschen Sie dieses Textfeld und die Hilfslinie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  <a:ea typeface="Arial"/>
              </a:rPr>
              <a:t>für die Überlappung mit dem Profilfoto und fügen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  <a:ea typeface="Arial"/>
              </a:rPr>
              <a:t>Sie dann Ihr Bild/Design hier e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1582560" y="3552840"/>
            <a:ext cx="1981440" cy="1211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Profilfoto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Überlapp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4240" y="190080"/>
            <a:ext cx="1286352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efällt Ihnen diese Vorlage? Teilen Sie si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1785960"/>
            <a:ext cx="142923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Klicken Sie auf die Symbole, um diese Vorlage auf Social Media zu teil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9" descr=""/>
          <p:cNvPicPr/>
          <p:nvPr/>
        </p:nvPicPr>
        <p:blipFill>
          <a:blip r:embed="rId1"/>
          <a:stretch/>
        </p:blipFill>
        <p:spPr>
          <a:xfrm>
            <a:off x="5008680" y="2770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"/>
          <p:cNvPicPr/>
          <p:nvPr/>
        </p:nvPicPr>
        <p:blipFill>
          <a:blip r:embed="rId2"/>
          <a:stretch/>
        </p:blipFill>
        <p:spPr>
          <a:xfrm>
            <a:off x="8285040" y="276372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"/>
          <p:cNvPicPr/>
          <p:nvPr/>
        </p:nvPicPr>
        <p:blipFill>
          <a:blip r:embed="rId3"/>
          <a:stretch/>
        </p:blipFill>
        <p:spPr>
          <a:xfrm>
            <a:off x="6594480" y="277020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7:24:30Z</dcterms:created>
  <dc:creator>Shannon Johnson</dc:creator>
  <dc:description/>
  <dc:language>en-US</dc:language>
  <cp:lastModifiedBy>Virginia Vitantonio</cp:lastModifiedBy>
  <dcterms:modified xsi:type="dcterms:W3CDTF">2016-10-14T17:32:07Z</dcterms:modified>
  <cp:revision>26</cp:revision>
  <dc:subject/>
  <dc:title>PowerPoint Presentation</dc:title>
</cp:coreProperties>
</file>